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AB94-CE10-42AB-80F9-ACC2FC816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5E18-61CB-45D1-933B-9F0EDEA7F7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3D39-1D23-4995-BE70-DA1C3E3DEA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mitted patients with no RNA results - 47 pts (3.7%) no RNA results in their charts – mostly clotting factor patients – likely to have been positive – died prior to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23% (n=299) of database participants did not have positive confirmatory (RNA or RIBA) hepatitis C results in their charts – if some of these patients had false positive screening tests (EIA/ELISA) then the spontaneous viral clearance rate will be over-estim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75% AD women, 12% blood transfusion pts, 13% clotting factor patients (mostly pts who died in 1990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EF11-C4FD-4841-8457-0E238DE78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87DA-8C0B-4354-AB39-78BB291AE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edian duration of infection for ever RNA pos anti-D participants: 2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t latest follow up, 81% of ever RNA positive anti-D participants infected for 25 years or lon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0D73-351E-41C8-AD4A-D434EBBE4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edian duration of infection ever RNA pos transfusion/renal patients: 2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30% infected for 25+ yrs at end of latest follow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edian duration infection ever RNA pos clotting factor patients: 27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3% infected for 25+ yrs at end of latest follow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669-5D39-4DCA-983F-3395E14AA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77% of those who were genotyped were genotyp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90% of anti-D participants were genotyp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enotype 1 also predominated in the other groups – 59% of transfusion/renal patients and 65% clotting factor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DDB6-40F1-46CB-8DB2-A780C79B4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ales higher alcohol consumption than females – 33% of males over recommended limits compared to 7% of fe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lcohol major determinant of hepatitis C disease prog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hart shows highest recorded alcohol intake: alcohol intake may have changed and this is not reflected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0E60-F4DD-4DC5-9E8E-9BD74CD57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5EB1-6035-40B3-9EB9-21CDA3F02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igns of liver disease (one or more): cirrhosis, HCC, varices, ascites, portal hypertension, hepatomegaly, splenomegaly, hepatic decompens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Death from liver-related causes: hepatitis C, HCC, liver failure, cirrhosis, chronic hepatit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ransfusion/renal and clotting factor patients worse outcomes compared to anti-D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19% of transfusion/renal patients and 12% of clotting factor pts had developed cirrhosis by latest follow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ompared to 7% of anti-D pat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DA6-0560-46C8-8B41-7062BFF07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iver related outcomes significantly worse for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B314-2130-40A8-96CE-E576668B0A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B990-1B74-4C1B-898C-B071B9296F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lcohol has large impact on liver related outc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igh alcohol is &gt;40 units per week or alcohol abuse in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ighest reported alcohol used (n=58 RNA pos pts) – recent data not available for most 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EA6-560D-4283-A66A-0A8AAE3F7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693F-485A-44D2-92D2-AF09A1E4A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aemophiliacs with no RNA results excluded from this – very high mortality rate in this group (HIV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5EB7-4CF4-46CE-8F86-2A90C5EFE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426A-CECD-42B5-8862-A78C08973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ore severe disease: one or more signs of liver disease, liver-related death, ever had high fibrosis scores on biop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enotype 3: not generally reported in the literature to affect disease progr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4DD6-EBEF-42F4-BC59-1CC477022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DF95-234D-407D-B835-9C464F8E6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nly statistically significant differences reported in this sl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E3B9-F9C3-42D9-8C55-D3838F8E4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140-31AA-4137-AB80-515598DE9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verall: 309 ever RNA positive participants have had one or more course of anti-viral treatment (=39.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D41D-CB63-4293-A51A-E93467FFB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B39A-3084-4668-BAC4-8DB64661E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EBBA-E03B-4E1E-8259-9DD89CA5A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dds of SVR are higher for genotype 3 patients, younger patients, those treated for longer and those treated with combination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894F-4811-4170-8C0D-419C4380A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Odds of SVR are higher for genotype 3 patients, younger patients, those treated for longer and those treated with combination 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FE36-B094-4257-991C-F0FDEE4C5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is only includes patients who had a biopsy before treatment and a biopsy after treatment (n=10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All scores standardised to 0-4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Fibrosis scores worsened for 24% (n=16) who did not achieve SVR on treatment compared to 5% (n=2) who d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31% of those who did not achieve SVR on treatment still showed improvement in their fibrosis scores aft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1% of those who achieved SVR on treatment showed improved fibrosis scores in post-treatment biops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2837-5D0E-4671-8A8F-E50EBBE6C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C86A-8C21-4174-87EF-8CCBC6BB2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1793-C6EA-4878-9F78-107CD46B1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EA8-7402-466F-AB91-35AA74E58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B5C0-E1E6-4124-BFCB-B453DD677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6F2-AFD7-440D-B2FE-4D69D6DFA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Participation rate includes deceased patients (unless they refused prior to death or their family refused on their behal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onsent rate:   72.5%,    Refused:  3.2%,     Non response: 24.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493E-7FA4-4977-8B37-BF2A979CA5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 participants infected through other means e.g. vertical or sexual contact with person infected through blood/blood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62% of all database participants were infected through contaminated anti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78% of database participants are female – mainly due to large group of women infected through anti-D between 1977 and 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group infected through contaminated blood clotting factors is predominantly male (9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blood transfusion group is 60% female, 40% m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0C4A-197C-49F9-A25C-90A127AE4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he overall median age at infection was 28 years (range 16-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Haemophiliacs had the lowest median age at infection – 14 years – most infected as children (range: 0-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blood transfusion/renal patients had -the highest median age at infection – 33 years (wide range: 0-77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46B6-6AF8-49D4-8909-9B0E828DD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533C-A72A-40C6-B790-3A3FCC65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A9B-31D3-4167-A29A-47F59806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61C-8486-4116-9FD0-23726F48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5341-EAE0-4E00-B324-B298429D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A84-7111-4759-B1F8-E2A2BF54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D38-5FF8-4C24-A9C8-24074939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4F4-DA03-4DD0-83A1-ED4937E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BE2-5DBB-42C7-AAC8-5E23AB70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758D-DC10-4174-85B9-3A9F7BBE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9FB-9428-43AC-9C20-3730F38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A20-3A03-45EB-8481-CED8175A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98E-BB50-401D-ADC2-EC6550FD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F9EC-504D-4173-A466-E0605A9C1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hcvdatabase.ie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3886200"/>
            <a:ext cx="8429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Calibri"/>
              </a:rPr>
              <a:t>Lelia Thornt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Calibri"/>
              </a:rPr>
              <a:t>Health Protection Surveillance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Calibri"/>
              </a:rPr>
              <a:t>June 200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5009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Distribution of age at infection and age at end of latest follow-u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86800" y="3715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hart 7" descr=""/>
          <p:cNvPicPr/>
          <p:nvPr/>
        </p:nvPicPr>
        <p:blipFill>
          <a:blip r:embed="rId2"/>
          <a:stretch/>
        </p:blipFill>
        <p:spPr>
          <a:xfrm>
            <a:off x="133200" y="1779480"/>
            <a:ext cx="865692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8440" y="49968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% RNA positive at diagnosis by Source of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572240" y="5144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Chart 12" descr=""/>
          <p:cNvPicPr/>
          <p:nvPr/>
        </p:nvPicPr>
        <p:blipFill>
          <a:blip r:embed="rId2"/>
          <a:stretch/>
        </p:blipFill>
        <p:spPr>
          <a:xfrm>
            <a:off x="281160" y="1706400"/>
            <a:ext cx="85089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3880" y="490320"/>
            <a:ext cx="700092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900" spc="-1" strike="noStrike">
                <a:solidFill>
                  <a:srgbClr val="002060"/>
                </a:solidFill>
                <a:latin typeface="Arial"/>
                <a:ea typeface="Arial"/>
              </a:rPr>
              <a:t>Viral clearance by time of diagno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040" y="142884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At diagnosis: 64% RNA positive, 36% RNA negativ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Females more likely to have cleared the vir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59% tested RNA positive compared to 85% of ma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7030a0"/>
                </a:solidFill>
                <a:latin typeface="Arial"/>
                <a:ea typeface="Arial"/>
              </a:rPr>
              <a:t>But, high spontaneous clearance rate in females should be interpreted with cau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&gt;20% of participants did not have positive confirmatory results for hepatitis C (RNA or RIBA positive), strongest results were EIA positive/weak positive/RIBA indetermi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ome may have been false posi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Most common in females infected through anti-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May have resulted in overestimation of viral clearance in this group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71516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Distribution of duration of Hepatitis C RNA positivity for Anti-D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7715160" y="428760"/>
            <a:ext cx="1209600" cy="1199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hart 6" descr=""/>
          <p:cNvPicPr/>
          <p:nvPr/>
        </p:nvPicPr>
        <p:blipFill>
          <a:blip r:embed="rId2"/>
          <a:stretch/>
        </p:blipFill>
        <p:spPr>
          <a:xfrm>
            <a:off x="281160" y="1639800"/>
            <a:ext cx="8581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Distribution of duration of Hepatitis C RNA positivity for blood transfusion/renal &amp; clotting factor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715160" y="428760"/>
            <a:ext cx="1209600" cy="11998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Chart 4" descr=""/>
          <p:cNvPicPr/>
          <p:nvPr/>
        </p:nvPicPr>
        <p:blipFill>
          <a:blip r:embed="rId2"/>
          <a:stretch/>
        </p:blipFill>
        <p:spPr>
          <a:xfrm>
            <a:off x="281160" y="1828800"/>
            <a:ext cx="8581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9720" y="49968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Hepatitis C genotype results: % of participants with each genotype by source o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353880" y="1706400"/>
            <a:ext cx="8436240" cy="458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7715160" y="5144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8"/>
          <p:cNvSpPr/>
          <p:nvPr/>
        </p:nvSpPr>
        <p:spPr>
          <a:xfrm flipV="1">
            <a:off x="3141720" y="1928880"/>
            <a:ext cx="1440" cy="29304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Alcohol intake: highest recorded by sex – ever RNA positive participants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Chart 3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8156520" cy="443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71516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 flipV="1">
            <a:off x="3784680" y="1643040"/>
            <a:ext cx="1440" cy="31449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57120" y="400068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and medical conditions by end of latest follow-u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6572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by source of infection – ever RNA positive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64388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hart 7" descr=""/>
          <p:cNvPicPr/>
          <p:nvPr/>
        </p:nvPicPr>
        <p:blipFill>
          <a:blip r:embed="rId2"/>
          <a:stretch/>
        </p:blipFill>
        <p:spPr>
          <a:xfrm>
            <a:off x="281160" y="1779480"/>
            <a:ext cx="85816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1720" y="428760"/>
            <a:ext cx="65721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by sex – ever RNA positive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764388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hart 5" descr=""/>
          <p:cNvPicPr/>
          <p:nvPr/>
        </p:nvPicPr>
        <p:blipFill>
          <a:blip r:embed="rId2"/>
          <a:stretch/>
        </p:blipFill>
        <p:spPr>
          <a:xfrm>
            <a:off x="208080" y="1494000"/>
            <a:ext cx="865476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75009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Background to hepatitis C infection through blood/blood products in Ire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ti-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pproximately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1000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females infected through contaminated anti-D from 2 dono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en-GB" sz="1800" spc="-1" strike="noStrike">
                <a:solidFill>
                  <a:srgbClr val="7030a0"/>
                </a:solidFill>
                <a:latin typeface="Arial"/>
                <a:ea typeface="Arial"/>
              </a:rPr>
              <a:t>90% infected 1977 to 1979 – genotype 1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~10% infected 1991 to 1994 – genotype 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Infected during child bearing years – expected to have been generally healthy when infec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lood transfusion/cross contamination in renal dialysis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&gt;400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people infected prior to the introduction of screening in 199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Heterogeneous group in terms of age and s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ignificant proportion likely to have had serious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underlying illnesses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when infect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lood clotting factors (for tx haemophilia, von Willebrand disease and other coagulation disord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&gt;220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people infected – mostly between mid 1970s and early 1980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Mostly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male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, infected as childr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pproximately</a:t>
            </a:r>
            <a:r>
              <a:rPr b="0" lang="en-GB" sz="19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7030a0"/>
                </a:solidFill>
                <a:latin typeface="Arial"/>
                <a:ea typeface="Arial"/>
              </a:rPr>
              <a:t>one third co-infected with HIV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71516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6858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Liver-related outcomes by highest alcohol intake – ever RNA positive participa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7643880" y="4428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hart 7" descr=""/>
          <p:cNvPicPr/>
          <p:nvPr/>
        </p:nvPicPr>
        <p:blipFill>
          <a:blip r:embed="rId2"/>
          <a:stretch/>
        </p:blipFill>
        <p:spPr>
          <a:xfrm>
            <a:off x="281160" y="1779480"/>
            <a:ext cx="85089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8840" y="490680"/>
            <a:ext cx="59292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Liver-related de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0004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43</a:t>
            </a:r>
            <a:r>
              <a:rPr b="1" lang="en-IE" sz="2400" spc="-1" strike="noStrike">
                <a:solidFill>
                  <a:srgbClr val="604a7b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database participants had died directly from liver-related causes by the end of latest follow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33 had tested RNA positive</a:t>
            </a:r>
            <a:r>
              <a:rPr b="1" lang="en-IE" sz="2400" spc="-1" strike="noStrike">
                <a:solidFill>
                  <a:srgbClr val="604a7b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at some stage, 8 had no RNA results in their charts and 2 had never tested RNA pos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Where alcohol consumption data available (n=34), </a:t>
            </a: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53% had high alcohol consum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Cause of dea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Hepatitis C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Liver cell carcinoma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Liver failure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Cirrhosis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Other liver-related causes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6</a:t>
            </a:r>
            <a:r>
              <a:rPr b="1" lang="en-IE" sz="2000" spc="-1" strike="noStrike">
                <a:solidFill>
                  <a:srgbClr val="604a7b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71516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6858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Cumulative proportion of individuals surviving by RNA status &amp; duration o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7643880" y="3571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850104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7000920" y="3214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c00000"/>
                </a:solidFill>
                <a:latin typeface="Calibri"/>
              </a:rPr>
              <a:t>RNA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7215120" y="25002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2060"/>
                </a:solidFill>
                <a:latin typeface="Calibri"/>
              </a:rPr>
              <a:t>RNA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8840" y="490680"/>
            <a:ext cx="59292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Disease seve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876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2060"/>
                </a:solidFill>
                <a:latin typeface="Arial"/>
                <a:ea typeface="Arial"/>
              </a:rPr>
              <a:t>Participants were classified as having ‘</a:t>
            </a:r>
            <a:r>
              <a:rPr b="1" lang="en-IE" sz="2200" spc="-1" strike="noStrike">
                <a:solidFill>
                  <a:srgbClr val="7030a0"/>
                </a:solidFill>
                <a:latin typeface="Arial"/>
                <a:ea typeface="Arial"/>
              </a:rPr>
              <a:t>more severe’ liver disease</a:t>
            </a:r>
            <a:r>
              <a:rPr b="1" lang="en-IE" sz="2200" spc="-1" strike="noStrike">
                <a:solidFill>
                  <a:srgbClr val="002060"/>
                </a:solidFill>
                <a:latin typeface="Arial"/>
                <a:ea typeface="Arial"/>
              </a:rPr>
              <a:t> if they ha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ied from liver-related disease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ad serious signs of liver disease – cirrhosis, HCC, ascites, varices, decompensated liver disease, portal hypertension, encephalopathy, hepatomegaly, splenomegaly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ad a high fibrosis score on biops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All other participants were classified as having ‘less severe’ dise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By end of latest follow up </a:t>
            </a:r>
            <a:r>
              <a:rPr b="1" lang="en-IE" sz="2200" spc="-1" strike="noStrike">
                <a:solidFill>
                  <a:srgbClr val="7030a0"/>
                </a:solidFill>
                <a:latin typeface="Arial"/>
                <a:ea typeface="Arial"/>
              </a:rPr>
              <a:t>25% of ever RNA positive participants had ‘more severe’ liver disease (n=19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Logistic regression modelling used to look at factors associated with disease seve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791480" y="1429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600" y="214200"/>
            <a:ext cx="7286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2060"/>
                </a:solidFill>
                <a:latin typeface="Arial"/>
                <a:ea typeface="Arial"/>
              </a:rPr>
              <a:t>Factors associated with having more severe liver disease by end of latest follow-up:</a:t>
            </a:r>
            <a:br>
              <a:rPr sz="2400"/>
            </a:br>
            <a:r>
              <a:rPr b="1" lang="en-IE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logistic regression model (n=68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771516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4200" y="1500120"/>
          <a:ext cx="8643960" cy="5054760"/>
        </p:xfrm>
        <a:graphic>
          <a:graphicData uri="http://schemas.openxmlformats.org/drawingml/2006/table">
            <a:tbl>
              <a:tblPr/>
              <a:tblGrid>
                <a:gridCol w="5264280"/>
                <a:gridCol w="949320"/>
                <a:gridCol w="1144440"/>
                <a:gridCol w="1285920"/>
              </a:tblGrid>
              <a:tr h="74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actors associated with having more severe dis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Odds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95% Confidence 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cohol consum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drinker/within recommended limits/moderately hig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(&gt;40 units per week or alcohol abuse in char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3-10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4-4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e at end of latest follow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9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+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0-3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-2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-3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uration of RNA po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0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+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-3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71400" y="428760"/>
            <a:ext cx="5715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Most commonly recorded medic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14240" y="1714680"/>
          <a:ext cx="8072640" cy="4174920"/>
        </p:xfrm>
        <a:graphic>
          <a:graphicData uri="http://schemas.openxmlformats.org/drawingml/2006/table">
            <a:tbl>
              <a:tblPr/>
              <a:tblGrid>
                <a:gridCol w="4367520"/>
                <a:gridCol w="1790640"/>
                <a:gridCol w="1914480"/>
              </a:tblGrid>
              <a:tr h="83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ever RNA positive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ver RNA positive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igue &amp; letha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hralgia/joint p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/full hyster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porosis/osteopae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myal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ndic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3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lecyst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arthr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0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 eyes or Sicca/Sjorgen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577280" y="29988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7500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500" spc="-1" strike="noStrike">
                <a:solidFill>
                  <a:srgbClr val="002060"/>
                </a:solidFill>
                <a:latin typeface="Arial"/>
                <a:ea typeface="Arial"/>
              </a:rPr>
              <a:t>Medical conditions recorded significantly more often in charts of ever RNA positive participan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2960" y="1643040"/>
          <a:ext cx="7858080" cy="3240000"/>
        </p:xfrm>
        <a:graphic>
          <a:graphicData uri="http://schemas.openxmlformats.org/drawingml/2006/table">
            <a:tbl>
              <a:tblPr/>
              <a:tblGrid>
                <a:gridCol w="3233880"/>
                <a:gridCol w="2141280"/>
                <a:gridCol w="2482920"/>
              </a:tblGrid>
              <a:tr h="10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cond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ever RNA positive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never RNA positive partici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3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eoporosis/osteopa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5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x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 ab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r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719840" y="2858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357120" y="5072040"/>
            <a:ext cx="8786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ithout a control group, difficult to determine if prevalence of these medical conditions is different from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Questionnaire looking general health sent to HAA card holders – questions based on national health and lifestyle questionnaire so responses can be comp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57120" y="4214880"/>
            <a:ext cx="8429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2060"/>
                </a:solidFill>
                <a:latin typeface="Arial"/>
                <a:ea typeface="Arial"/>
              </a:rPr>
              <a:t>Anti-viral treat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73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% of ever RNA positive participants treated (n=309) by source of infection &amp; geno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7791480" y="3715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Chart 7" descr=""/>
          <p:cNvPicPr/>
          <p:nvPr/>
        </p:nvPicPr>
        <p:blipFill>
          <a:blip r:embed="rId2"/>
          <a:stretch/>
        </p:blipFill>
        <p:spPr>
          <a:xfrm>
            <a:off x="208080" y="1706400"/>
            <a:ext cx="8654760" cy="4584960"/>
          </a:xfrm>
          <a:prstGeom prst="rect">
            <a:avLst/>
          </a:prstGeom>
          <a:ln w="0">
            <a:noFill/>
          </a:ln>
        </p:spPr>
      </p:pic>
      <p:sp>
        <p:nvSpPr>
          <p:cNvPr id="160" name="Straight Connector 10"/>
          <p:cNvSpPr/>
          <p:nvPr/>
        </p:nvSpPr>
        <p:spPr>
          <a:xfrm flipV="1">
            <a:off x="3141720" y="1928520"/>
            <a:ext cx="1440" cy="31446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6800" y="428760"/>
            <a:ext cx="6715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% SVR on first treatment by genotype, treatment type and treatment d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648560" y="29988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Chart 7" descr=""/>
          <p:cNvPicPr/>
          <p:nvPr/>
        </p:nvPicPr>
        <p:blipFill>
          <a:blip r:embed="rId2"/>
          <a:stretch/>
        </p:blipFill>
        <p:spPr>
          <a:xfrm>
            <a:off x="281160" y="1566720"/>
            <a:ext cx="8581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800" y="428400"/>
            <a:ext cx="6500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Background to the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004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Specialist hepatology units set up in 8 hospit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All living people infected with hepatitis C through blood/blood products referred to &amp; assessed in a hepatology un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Health (Amendment) Act 1996: ensures priority access to hepatology services and range of additional specialist hospital and primary care services – mostly through referrals from hepatology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In 2000, the Consultative Council on Hepatitis C recommended that a database be developed to follow the natural history of hepatitis C disease in this group of pati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Database project started in 2004 – managed by HPS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Eligible population identified through hepatology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19840" y="14292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1434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Characteristics associated with SVR on first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64388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7120" y="1571760"/>
          <a:ext cx="8286840" cy="4714920"/>
        </p:xfrm>
        <a:graphic>
          <a:graphicData uri="http://schemas.openxmlformats.org/drawingml/2006/table">
            <a:tbl>
              <a:tblPr/>
              <a:tblGrid>
                <a:gridCol w="2855880"/>
                <a:gridCol w="2316240"/>
                <a:gridCol w="1557360"/>
                <a:gridCol w="1557360"/>
              </a:tblGrid>
              <a:tr h="725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acteris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V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Al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Age at treat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-44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+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Treat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o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ined thera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Treatment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24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-47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+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69296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Logistic regression analysis of characteristics associated with SVR on first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7719840" y="2858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57120" y="1596960"/>
          <a:ext cx="8501040" cy="4832280"/>
        </p:xfrm>
        <a:graphic>
          <a:graphicData uri="http://schemas.openxmlformats.org/drawingml/2006/table">
            <a:tbl>
              <a:tblPr/>
              <a:tblGrid>
                <a:gridCol w="5000760"/>
                <a:gridCol w="1192320"/>
                <a:gridCol w="1153800"/>
                <a:gridCol w="1154160"/>
              </a:tblGrid>
              <a:tr h="74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s associated with SVR on first treat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ds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Confidence 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Geno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-8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7-14.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ge at trea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er: 45+ yea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nger: &lt;45 yea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4-5.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ype of trea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therapy: IFN or Peg-IF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bined therapy: IFN &amp; Ribavirin or Peg IFN &amp; Ribavir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7-13.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reatment dur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24 wee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-47 wee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-5.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+ week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0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1-11.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3880" y="571680"/>
            <a:ext cx="70009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Change in fibrosis scores* after treatment by SVR status (n=10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Chart 2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515080" cy="4651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7572240" y="514440"/>
            <a:ext cx="1209960" cy="1200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Concluding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0004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ignificant proportions of Irish people infected with hepatitis C through blood/blood products have now developed serious liver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lcohol consumption has a large impact on disease progr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reatment outcomes have improved substantially - Peg-IFN and Ribavi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atabase will be a source of valuable data on the natural history of hepatitis C over the next 5 to 10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Room for improvement: BMI data for most patients, recent alcohol consumption data &amp; higher participation r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Baseline and follow up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vailable from: </a:t>
            </a:r>
            <a:r>
              <a:rPr b="0" lang="en-IE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cvdatabase.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7643880" y="21420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5857920" y="5214960"/>
            <a:ext cx="1143000" cy="1357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4"/>
          <a:stretch/>
        </p:blipFill>
        <p:spPr>
          <a:xfrm>
            <a:off x="7143840" y="5214960"/>
            <a:ext cx="1071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Acknowled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14300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atabase particip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8 Hepatology 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Patient Support Groups: Positive Action, Transfusion Positive, Irish Haemophilia Society &amp; Irish Kidney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Database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Database Scientific &amp; 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nsultative Council on Hepatitis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64388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itle 1"/>
          <p:cNvSpPr/>
          <p:nvPr/>
        </p:nvSpPr>
        <p:spPr>
          <a:xfrm>
            <a:off x="571680" y="428616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2060"/>
                </a:solidFill>
                <a:latin typeface="Arial"/>
                <a:ea typeface="Arial"/>
              </a:rPr>
              <a:t>Database Team in HP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ontent Placeholder 2"/>
          <p:cNvSpPr/>
          <p:nvPr/>
        </p:nvSpPr>
        <p:spPr>
          <a:xfrm>
            <a:off x="571680" y="4786200"/>
            <a:ext cx="82296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 Lelia Thornton, Specialist in Public Health Medicine (project coordin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Niamh Murphy, Surveillance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aula Flanagan, Research 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rgaret McIver, Surveillance Ass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572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Who is included in the database and how is data collection don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480" y="1428480"/>
            <a:ext cx="8643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Inclusion criter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Infected with hepatitis C through blood/blood products in Ire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Infection defined 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RNA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positive  and/</a:t>
            </a: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epatitis C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antibody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 positive ( RIBA positive or indeterminat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nd/or EIA/ELISA positive or weak posi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Arial"/>
                <a:ea typeface="Arial"/>
              </a:rPr>
              <a:t>Data col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Consent</a:t>
            </a:r>
            <a:r>
              <a:rPr b="0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required</a:t>
            </a:r>
            <a:r>
              <a:rPr b="0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o participate except where patient is dece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ata collected from </a:t>
            </a: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medical records in the 8 hepatology units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by a HPSC research nu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Baseline data collected 2005 to 2007 – all avail data up to end 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First year of follow up data collected 2008 – data up to end 200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7030a0"/>
                </a:solidFill>
                <a:latin typeface="Arial"/>
                <a:ea typeface="Arial"/>
              </a:rPr>
              <a:t>Ongoing project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with annual follow up – Yr 2 follow up in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71516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0080" y="490680"/>
            <a:ext cx="657216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Data coll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00040" y="128556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Demographic and lifestyle data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date of birth, gender, height, weight, smoking, alcoh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Infection details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source &amp; year of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Laboratory results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hepatitis C antibody &amp; RNA results, hepatitis C genotype, LFT and biopsy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Clinical status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signs of liver disease, other medical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Cause and date of death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for deceased pat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Treatment details</a:t>
            </a:r>
            <a:r>
              <a:rPr b="0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treatment regim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7030a0"/>
                </a:solidFill>
                <a:latin typeface="Arial"/>
                <a:ea typeface="Arial"/>
              </a:rPr>
              <a:t>Clinical management: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719840" y="157320"/>
            <a:ext cx="1209960" cy="119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57120" y="4214520"/>
            <a:ext cx="842976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2060"/>
                </a:solidFill>
                <a:latin typeface="Arial"/>
                <a:ea typeface="Arial"/>
              </a:rPr>
              <a:t>Database popul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826776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286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2060"/>
                </a:solidFill>
                <a:latin typeface="Arial"/>
                <a:ea typeface="Arial"/>
              </a:rPr>
              <a:t>Participation: % of eligible people currently in the database by source of inf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hart 3" descr=""/>
          <p:cNvPicPr/>
          <p:nvPr/>
        </p:nvPicPr>
        <p:blipFill>
          <a:blip r:embed="rId1"/>
          <a:stretch/>
        </p:blipFill>
        <p:spPr>
          <a:xfrm>
            <a:off x="353880" y="1639800"/>
            <a:ext cx="8508960" cy="4584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7786800" y="28584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8"/>
          <p:cNvSpPr/>
          <p:nvPr/>
        </p:nvSpPr>
        <p:spPr>
          <a:xfrm flipV="1">
            <a:off x="3212280" y="1785960"/>
            <a:ext cx="1800" cy="35733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2060"/>
                </a:solidFill>
                <a:latin typeface="Arial"/>
                <a:ea typeface="Arial"/>
              </a:rPr>
              <a:t>Number of database participants by source of infection and sex (n=127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hart 3" descr=""/>
          <p:cNvPicPr/>
          <p:nvPr/>
        </p:nvPicPr>
        <p:blipFill>
          <a:blip r:embed="rId1"/>
          <a:stretch/>
        </p:blipFill>
        <p:spPr>
          <a:xfrm>
            <a:off x="353880" y="1706400"/>
            <a:ext cx="8369280" cy="444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7715160" y="371520"/>
            <a:ext cx="1209600" cy="12002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8"/>
          <p:cNvSpPr/>
          <p:nvPr/>
        </p:nvSpPr>
        <p:spPr>
          <a:xfrm flipV="1">
            <a:off x="3141720" y="1785960"/>
            <a:ext cx="1440" cy="314496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2060"/>
                </a:solidFill>
                <a:latin typeface="Arial"/>
                <a:ea typeface="Arial"/>
              </a:rPr>
              <a:t>Median age at infection and at end of latest follow up by source of inf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hart 4" descr=""/>
          <p:cNvPicPr/>
          <p:nvPr/>
        </p:nvPicPr>
        <p:blipFill>
          <a:blip r:embed="rId1"/>
          <a:stretch/>
        </p:blipFill>
        <p:spPr>
          <a:xfrm>
            <a:off x="281160" y="1792440"/>
            <a:ext cx="8654760" cy="449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7715160" y="428760"/>
            <a:ext cx="1209600" cy="1199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63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8"/>
          <p:cNvSpPr/>
          <p:nvPr/>
        </p:nvSpPr>
        <p:spPr>
          <a:xfrm flipV="1">
            <a:off x="2998800" y="1999800"/>
            <a:ext cx="1440" cy="307332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26:58Z</dcterms:created>
  <dc:creator>niamhmurphy</dc:creator>
  <dc:description/>
  <dc:language>en-US</dc:language>
  <cp:lastModifiedBy>niamhmurphy</cp:lastModifiedBy>
  <dcterms:modified xsi:type="dcterms:W3CDTF">2009-07-10T11:37:18Z</dcterms:modified>
  <cp:revision>298</cp:revision>
  <dc:subject/>
  <dc:title>Slide 1</dc:title>
</cp:coreProperties>
</file>