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9497-021F-4C59-B11B-D771190CB2EA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973C-07BC-4CA2-BD1A-029A3A4679EB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D678-6AA3-4A31-B241-CF0B43278B90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5AAC-CC55-4FEB-8E39-42725591308E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9F28-A346-4481-A2F5-2B433664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BB66-54D6-4883-9E35-F83E210D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4483-C48A-427E-8A7C-4C784642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5A3D-1C61-4EF7-86F7-4EED8B77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B4F0-7130-4D6F-A721-75A540F5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3144-EC87-4DCC-A981-469468FC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CA2C-8DAB-4BCF-8814-CDB2DC2E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569D-40B6-4F7F-919A-E719B84C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B8F6-26F3-4782-8087-4B6EAD2C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9E2A-454F-4BF3-B259-A2EB9CCC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3CD6-0B04-4BFC-B00E-BF066507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6C70-3518-4131-8666-AD25D1D4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5769-BD7F-400B-8FAA-CF982019D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43280" y="333360"/>
            <a:ext cx="288144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ional Hepatitis C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413000"/>
            <a:ext cx="6400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7375e"/>
                </a:solidFill>
                <a:latin typeface="Calibri"/>
              </a:rPr>
              <a:t>National Hepatitis C Data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7375e"/>
                </a:solidFill>
                <a:latin typeface="Calibri"/>
              </a:rPr>
              <a:t>for infection acquired through blood and blood produ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Dr Lelia Thornton, HPS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European Hepatitis C Confere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5-7 June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hcv.JPG"/>
          <p:cNvPicPr/>
          <p:nvPr/>
        </p:nvPicPr>
        <p:blipFill>
          <a:blip r:embed="rId1"/>
          <a:stretch/>
        </p:blipFill>
        <p:spPr>
          <a:xfrm>
            <a:off x="7640640" y="18900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51" name="Straight Connector 9"/>
          <p:cNvSpPr/>
          <p:nvPr/>
        </p:nvSpPr>
        <p:spPr>
          <a:xfrm>
            <a:off x="0" y="112536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7375e"/>
                </a:solidFill>
                <a:latin typeface="Calibri"/>
              </a:rPr>
              <a:t>225 people identified as infected with hepatitis C through blood clotting factors in Ireland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tle 1"/>
          <p:cNvSpPr/>
          <p:nvPr/>
        </p:nvSpPr>
        <p:spPr>
          <a:xfrm>
            <a:off x="4716360" y="260280"/>
            <a:ext cx="28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ional Hepatitis C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7" descr="hcv.JPG"/>
          <p:cNvPicPr/>
          <p:nvPr/>
        </p:nvPicPr>
        <p:blipFill>
          <a:blip r:embed="rId1"/>
          <a:stretch/>
        </p:blipFill>
        <p:spPr>
          <a:xfrm>
            <a:off x="7667640" y="18900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98" name="Straight Connector 8"/>
          <p:cNvSpPr/>
          <p:nvPr/>
        </p:nvSpPr>
        <p:spPr>
          <a:xfrm>
            <a:off x="0" y="98100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9" descr=""/>
          <p:cNvPicPr/>
          <p:nvPr/>
        </p:nvPicPr>
        <p:blipFill>
          <a:blip r:embed="rId2"/>
          <a:stretch/>
        </p:blipFill>
        <p:spPr>
          <a:xfrm>
            <a:off x="755640" y="1914480"/>
            <a:ext cx="741852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Haemophiliac cohort by year of HCV infection and RNA stat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tle 1"/>
          <p:cNvSpPr/>
          <p:nvPr/>
        </p:nvSpPr>
        <p:spPr>
          <a:xfrm>
            <a:off x="4716360" y="260280"/>
            <a:ext cx="28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ional Hepatitis C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7" descr="hcv.JPG"/>
          <p:cNvPicPr/>
          <p:nvPr/>
        </p:nvPicPr>
        <p:blipFill>
          <a:blip r:embed="rId1"/>
          <a:stretch/>
        </p:blipFill>
        <p:spPr>
          <a:xfrm>
            <a:off x="7667640" y="18900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103" name="Straight Connector 8"/>
          <p:cNvSpPr/>
          <p:nvPr/>
        </p:nvSpPr>
        <p:spPr>
          <a:xfrm>
            <a:off x="0" y="98100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ontent Placeholder 9" descr=""/>
          <p:cNvPicPr/>
          <p:nvPr/>
        </p:nvPicPr>
        <p:blipFill>
          <a:blip r:embed="rId2"/>
          <a:stretch/>
        </p:blipFill>
        <p:spPr>
          <a:xfrm>
            <a:off x="554040" y="2060640"/>
            <a:ext cx="83278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982800"/>
            <a:ext cx="84358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HCV infection status – Haemophiliac coh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itle 1"/>
          <p:cNvSpPr/>
          <p:nvPr/>
        </p:nvSpPr>
        <p:spPr>
          <a:xfrm>
            <a:off x="4716360" y="260280"/>
            <a:ext cx="28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ional Hepatitis C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hcv.JPG"/>
          <p:cNvPicPr/>
          <p:nvPr/>
        </p:nvPicPr>
        <p:blipFill>
          <a:blip r:embed="rId1"/>
          <a:stretch/>
        </p:blipFill>
        <p:spPr>
          <a:xfrm>
            <a:off x="7667640" y="18900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108" name="Straight Connector 8"/>
          <p:cNvSpPr/>
          <p:nvPr/>
        </p:nvSpPr>
        <p:spPr>
          <a:xfrm>
            <a:off x="0" y="98100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2276640"/>
          <a:ext cx="8229600" cy="3673440"/>
        </p:xfrm>
        <a:graphic>
          <a:graphicData uri="http://schemas.openxmlformats.org/drawingml/2006/table">
            <a:tbl>
              <a:tblPr/>
              <a:tblGrid>
                <a:gridCol w="3898800"/>
                <a:gridCol w="1116000"/>
                <a:gridCol w="1116000"/>
                <a:gridCol w="1049400"/>
                <a:gridCol w="1049400"/>
              </a:tblGrid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status – most rec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 haemophilia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rrently al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rrent chronic inf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 chronic inf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ver chronic inf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RNA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Hepatitis C status at diagn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itle 1"/>
          <p:cNvSpPr/>
          <p:nvPr/>
        </p:nvSpPr>
        <p:spPr>
          <a:xfrm>
            <a:off x="4716360" y="260280"/>
            <a:ext cx="28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ional Hepatitis C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7" descr="hcv.JPG"/>
          <p:cNvPicPr/>
          <p:nvPr/>
        </p:nvPicPr>
        <p:blipFill>
          <a:blip r:embed="rId1"/>
          <a:stretch/>
        </p:blipFill>
        <p:spPr>
          <a:xfrm>
            <a:off x="7667640" y="18900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113" name="Straight Connector 8"/>
          <p:cNvSpPr/>
          <p:nvPr/>
        </p:nvSpPr>
        <p:spPr>
          <a:xfrm>
            <a:off x="0" y="98100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Content Placeholder 9" descr=""/>
          <p:cNvPicPr/>
          <p:nvPr/>
        </p:nvPicPr>
        <p:blipFill>
          <a:blip r:embed="rId2"/>
          <a:stretch/>
        </p:blipFill>
        <p:spPr>
          <a:xfrm>
            <a:off x="609480" y="1987560"/>
            <a:ext cx="756468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8280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Profile of haemophiliac cohort (n=165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itle 1"/>
          <p:cNvSpPr/>
          <p:nvPr/>
        </p:nvSpPr>
        <p:spPr>
          <a:xfrm>
            <a:off x="4716360" y="260280"/>
            <a:ext cx="28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ional Hepatitis C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7" descr="hcv.JPG"/>
          <p:cNvPicPr/>
          <p:nvPr/>
        </p:nvPicPr>
        <p:blipFill>
          <a:blip r:embed="rId1"/>
          <a:stretch/>
        </p:blipFill>
        <p:spPr>
          <a:xfrm>
            <a:off x="7667640" y="18900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118" name="Straight Connector 8"/>
          <p:cNvSpPr/>
          <p:nvPr/>
        </p:nvSpPr>
        <p:spPr>
          <a:xfrm>
            <a:off x="0" y="98100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Males 154 (93%); females 11 (7%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Median age at infection: 13 ye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Median age now of those alive and chronically infected = 50 ye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HIV co-infection: n=69 (42%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22 HIV co-infected are ali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Calibri"/>
              </a:rPr>
              <a:t>9 currently HCV infec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Calibri"/>
              </a:rPr>
              <a:t>12 have cleared HCV through treat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Calibri"/>
              </a:rPr>
              <a:t>1 never had chronic HCV inf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Genotype 1=65%, genotype 3=22%, other=13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8280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Profile of haemophiliac cohor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itle 1"/>
          <p:cNvSpPr/>
          <p:nvPr/>
        </p:nvSpPr>
        <p:spPr>
          <a:xfrm>
            <a:off x="4716360" y="260280"/>
            <a:ext cx="28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ional Hepatitis C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7" descr="hcv.JPG"/>
          <p:cNvPicPr/>
          <p:nvPr/>
        </p:nvPicPr>
        <p:blipFill>
          <a:blip r:embed="rId1"/>
          <a:stretch/>
        </p:blipFill>
        <p:spPr>
          <a:xfrm>
            <a:off x="7667640" y="18900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123" name="Straight Connector 8"/>
          <p:cNvSpPr/>
          <p:nvPr/>
        </p:nvSpPr>
        <p:spPr>
          <a:xfrm>
            <a:off x="0" y="98100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773360"/>
          <a:ext cx="8229600" cy="4308480"/>
        </p:xfrm>
        <a:graphic>
          <a:graphicData uri="http://schemas.openxmlformats.org/drawingml/2006/table">
            <a:tbl>
              <a:tblPr/>
              <a:tblGrid>
                <a:gridCol w="2530440"/>
                <a:gridCol w="1332000"/>
                <a:gridCol w="1332000"/>
                <a:gridCol w="1517400"/>
                <a:gridCol w="1517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 haemophiliacs (n=16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ive, chronic infection (n=2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 at inf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 at latest follow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-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since inf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20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29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+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8280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Alcohol consumption</a:t>
            </a: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4716360" y="260280"/>
            <a:ext cx="28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ional Hepatitis C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7" descr="hcv.JPG"/>
          <p:cNvPicPr/>
          <p:nvPr/>
        </p:nvPicPr>
        <p:blipFill>
          <a:blip r:embed="rId1"/>
          <a:stretch/>
        </p:blipFill>
        <p:spPr>
          <a:xfrm>
            <a:off x="7667640" y="18900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128" name="Straight Connector 8"/>
          <p:cNvSpPr/>
          <p:nvPr/>
        </p:nvSpPr>
        <p:spPr>
          <a:xfrm>
            <a:off x="0" y="98100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Moderately high – 8% of chronically infec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High (&gt;40 units) – 10% of chronically infec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Males&gt;fem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Younger&gt;ol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Differences by source of infection may be attributable to age and sex distribut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Blood transfusion/renal: 21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Haemophiliacs: 35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Anti-D: 11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8280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Main outcomes – haemophiliac cohor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4716360" y="260280"/>
            <a:ext cx="28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ional Hepatitis C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7" descr="hcv.JPG"/>
          <p:cNvPicPr/>
          <p:nvPr/>
        </p:nvPicPr>
        <p:blipFill>
          <a:blip r:embed="rId1"/>
          <a:stretch/>
        </p:blipFill>
        <p:spPr>
          <a:xfrm>
            <a:off x="7667640" y="18900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8"/>
          <p:cNvSpPr/>
          <p:nvPr/>
        </p:nvSpPr>
        <p:spPr>
          <a:xfrm>
            <a:off x="0" y="98100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5120" y="1700280"/>
          <a:ext cx="7778880" cy="4465440"/>
        </p:xfrm>
        <a:graphic>
          <a:graphicData uri="http://schemas.openxmlformats.org/drawingml/2006/table">
            <a:tbl>
              <a:tblPr/>
              <a:tblGrid>
                <a:gridCol w="3819600"/>
                <a:gridCol w="1008000"/>
                <a:gridCol w="1008000"/>
                <a:gridCol w="935280"/>
                <a:gridCol w="1008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utc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ver chronic inf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ive and chronic inf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inical signs of serious liver diseas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rrh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r tumour/H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fibrosis score on biopsy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e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ed from liver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35" name="TextBox 11"/>
          <p:cNvSpPr/>
          <p:nvPr/>
        </p:nvSpPr>
        <p:spPr>
          <a:xfrm>
            <a:off x="468360" y="6222960"/>
            <a:ext cx="820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*Cirrhosis, HCC, varices, portal hypertension, ascites, decompensated liver disease, encephalopathy,  hepatosplenomegaly, hepatopulmonary syndrome, hepatic synthetic dysfunction, hepatorenal syndrome, portal gastropat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98280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Liver-related diagnostic procedu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itle 1"/>
          <p:cNvSpPr/>
          <p:nvPr/>
        </p:nvSpPr>
        <p:spPr>
          <a:xfrm>
            <a:off x="4716360" y="260280"/>
            <a:ext cx="28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ional Hepatitis C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7" descr="hcv.JPG"/>
          <p:cNvPicPr/>
          <p:nvPr/>
        </p:nvPicPr>
        <p:blipFill>
          <a:blip r:embed="rId1"/>
          <a:stretch/>
        </p:blipFill>
        <p:spPr>
          <a:xfrm>
            <a:off x="7667640" y="18900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139" name="Straight Connector 8"/>
          <p:cNvSpPr/>
          <p:nvPr/>
        </p:nvSpPr>
        <p:spPr>
          <a:xfrm>
            <a:off x="0" y="98100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254160" y="1989000"/>
            <a:ext cx="8635680" cy="38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4716360" y="40464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ional Hepatitis C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9" descr="hcv.JPG"/>
          <p:cNvPicPr/>
          <p:nvPr/>
        </p:nvPicPr>
        <p:blipFill>
          <a:blip r:embed="rId1"/>
          <a:stretch/>
        </p:blipFill>
        <p:spPr>
          <a:xfrm>
            <a:off x="7667640" y="18900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143" name="Straight Connector 10"/>
          <p:cNvSpPr/>
          <p:nvPr/>
        </p:nvSpPr>
        <p:spPr>
          <a:xfrm>
            <a:off x="0" y="97956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611280" y="126828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Liver-related outcomes in database participants who are alive with chronic inf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Chart 12" descr=""/>
          <p:cNvPicPr/>
          <p:nvPr/>
        </p:nvPicPr>
        <p:blipFill>
          <a:blip r:embed="rId2"/>
          <a:stretch/>
        </p:blipFill>
        <p:spPr>
          <a:xfrm>
            <a:off x="933480" y="2262240"/>
            <a:ext cx="745488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8280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Database proje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4716360" y="260280"/>
            <a:ext cx="28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ional Hepatitis C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hcv.JPG"/>
          <p:cNvPicPr/>
          <p:nvPr/>
        </p:nvPicPr>
        <p:blipFill>
          <a:blip r:embed="rId1"/>
          <a:stretch/>
        </p:blipFill>
        <p:spPr>
          <a:xfrm>
            <a:off x="7667640" y="18900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55" name="Straight Connector 8"/>
          <p:cNvSpPr/>
          <p:nvPr/>
        </p:nvSpPr>
        <p:spPr>
          <a:xfrm>
            <a:off x="0" y="98100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Approx. 1,700 people infected with hepatitis C in Ireland through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Anti-D immunoglobul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Blood transfusion/treatment for renal dise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Blood clotting fac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Database established in 200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HPSC and 8 specialist hepatology un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Steering Committee – including patient support grou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Database includes antibody pos and RNA p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8"/>
          <p:cNvSpPr/>
          <p:nvPr/>
        </p:nvSpPr>
        <p:spPr>
          <a:xfrm>
            <a:off x="4716360" y="40464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ional Hepatitis C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9" descr="hcv.JPG"/>
          <p:cNvPicPr/>
          <p:nvPr/>
        </p:nvPicPr>
        <p:blipFill>
          <a:blip r:embed="rId1"/>
          <a:stretch/>
        </p:blipFill>
        <p:spPr>
          <a:xfrm>
            <a:off x="7667640" y="18900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149" name="Straight Connector 10"/>
          <p:cNvSpPr/>
          <p:nvPr/>
        </p:nvSpPr>
        <p:spPr>
          <a:xfrm>
            <a:off x="0" y="97956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631800" y="988920"/>
            <a:ext cx="811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Changes in the prevalence of outcomes for chronically infected haemophiliacs since 20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Chart 12" descr=""/>
          <p:cNvPicPr/>
          <p:nvPr/>
        </p:nvPicPr>
        <p:blipFill>
          <a:blip r:embed="rId2"/>
          <a:stretch/>
        </p:blipFill>
        <p:spPr>
          <a:xfrm>
            <a:off x="871560" y="2560680"/>
            <a:ext cx="7400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Outcomes in haemophiliacs (ever chronic infection or no RNA results), by HIV sta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itle 1"/>
          <p:cNvSpPr/>
          <p:nvPr/>
        </p:nvSpPr>
        <p:spPr>
          <a:xfrm>
            <a:off x="4716360" y="260280"/>
            <a:ext cx="28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ional Hepatitis C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7" descr="hcv.JPG"/>
          <p:cNvPicPr/>
          <p:nvPr/>
        </p:nvPicPr>
        <p:blipFill>
          <a:blip r:embed="rId1"/>
          <a:stretch/>
        </p:blipFill>
        <p:spPr>
          <a:xfrm>
            <a:off x="7667640" y="18900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155" name="Straight Connector 8"/>
          <p:cNvSpPr/>
          <p:nvPr/>
        </p:nvSpPr>
        <p:spPr>
          <a:xfrm>
            <a:off x="0" y="98100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Chart 9" descr=""/>
          <p:cNvPicPr/>
          <p:nvPr/>
        </p:nvPicPr>
        <p:blipFill>
          <a:blip r:embed="rId2"/>
          <a:stretch/>
        </p:blipFill>
        <p:spPr>
          <a:xfrm>
            <a:off x="639720" y="2206800"/>
            <a:ext cx="741852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1f497d"/>
                </a:solidFill>
                <a:latin typeface="Calibri"/>
              </a:rPr>
              <a:t>Ever chronically infected participants with clinical signs of serious liver disease, by duration of infection and alcoh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itle 1"/>
          <p:cNvSpPr/>
          <p:nvPr/>
        </p:nvSpPr>
        <p:spPr>
          <a:xfrm>
            <a:off x="4716360" y="260280"/>
            <a:ext cx="28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ional Hepatitis C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7" descr="hcv.JPG"/>
          <p:cNvPicPr/>
          <p:nvPr/>
        </p:nvPicPr>
        <p:blipFill>
          <a:blip r:embed="rId1"/>
          <a:stretch/>
        </p:blipFill>
        <p:spPr>
          <a:xfrm>
            <a:off x="7667640" y="18900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161" name="Straight Connector 8"/>
          <p:cNvSpPr/>
          <p:nvPr/>
        </p:nvSpPr>
        <p:spPr>
          <a:xfrm>
            <a:off x="0" y="98100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Content Placeholder 9" descr=""/>
          <p:cNvPicPr/>
          <p:nvPr/>
        </p:nvPicPr>
        <p:blipFill>
          <a:blip r:embed="rId2"/>
          <a:stretch/>
        </p:blipFill>
        <p:spPr>
          <a:xfrm>
            <a:off x="512640" y="1914480"/>
            <a:ext cx="785664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linical signs of serious liver disease </a:t>
            </a:r>
            <a:br>
              <a:rPr sz="3600"/>
            </a:b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– all database participa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itle 1"/>
          <p:cNvSpPr/>
          <p:nvPr/>
        </p:nvSpPr>
        <p:spPr>
          <a:xfrm>
            <a:off x="4716360" y="260280"/>
            <a:ext cx="28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ional Hepatitis C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7" descr="hcv.JPG"/>
          <p:cNvPicPr/>
          <p:nvPr/>
        </p:nvPicPr>
        <p:blipFill>
          <a:blip r:embed="rId1"/>
          <a:stretch/>
        </p:blipFill>
        <p:spPr>
          <a:xfrm>
            <a:off x="7667640" y="18900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166" name="Straight Connector 8"/>
          <p:cNvSpPr/>
          <p:nvPr/>
        </p:nvSpPr>
        <p:spPr>
          <a:xfrm>
            <a:off x="0" y="98100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213336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Calibri"/>
              </a:rPr>
              <a:t>Mainly cirrhosis, varices, portal hypertension and ascit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Calibri"/>
              </a:rPr>
              <a:t>The factors independently associated with having serious liver disease wer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High alcohol inta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Longer duration of inf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Male s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Older age at end of follow-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Genotyp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Calibri"/>
              </a:rPr>
              <a:t>High alcohol intake - &gt;5 times higher odds of having signs of serious liver disea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8280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Cirrhosis – all database participant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itle 1"/>
          <p:cNvSpPr/>
          <p:nvPr/>
        </p:nvSpPr>
        <p:spPr>
          <a:xfrm>
            <a:off x="4716360" y="260280"/>
            <a:ext cx="28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ional Hepatitis C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7" descr="hcv.JPG"/>
          <p:cNvPicPr/>
          <p:nvPr/>
        </p:nvPicPr>
        <p:blipFill>
          <a:blip r:embed="rId1"/>
          <a:stretch/>
        </p:blipFill>
        <p:spPr>
          <a:xfrm>
            <a:off x="7667640" y="18900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171" name="Straight Connector 8"/>
          <p:cNvSpPr/>
          <p:nvPr/>
        </p:nvSpPr>
        <p:spPr>
          <a:xfrm>
            <a:off x="0" y="98100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High alcohol intake, being 50 years or older at last follow-up, being HCV infected for 20 years or longer and male sex were all independently associated with cirrhosis in those who had ever developed chronic inf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ose with a high alcohol intake had 5 times higher odds of having cirrh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8000" y="982800"/>
            <a:ext cx="89280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Cirrhosis in ever chronically infected participants: age at diagnosis and duration of infe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itle 1"/>
          <p:cNvSpPr/>
          <p:nvPr/>
        </p:nvSpPr>
        <p:spPr>
          <a:xfrm>
            <a:off x="4716360" y="260280"/>
            <a:ext cx="28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ional Hepatitis C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7" descr="hcv.JPG"/>
          <p:cNvPicPr/>
          <p:nvPr/>
        </p:nvPicPr>
        <p:blipFill>
          <a:blip r:embed="rId1"/>
          <a:stretch/>
        </p:blipFill>
        <p:spPr>
          <a:xfrm>
            <a:off x="7667640" y="18900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176" name="Straight Connector 8"/>
          <p:cNvSpPr/>
          <p:nvPr/>
        </p:nvSpPr>
        <p:spPr>
          <a:xfrm>
            <a:off x="0" y="98100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2421000"/>
          <a:ext cx="8229600" cy="2027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urce of inf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(%) with cirrh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dian age at cirrhosis diagn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dian duration of infection at cirrh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i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 (1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usion/re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 (29.9%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emophi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(19.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98280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HCC – all database participant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itle 1"/>
          <p:cNvSpPr/>
          <p:nvPr/>
        </p:nvSpPr>
        <p:spPr>
          <a:xfrm>
            <a:off x="4716360" y="260280"/>
            <a:ext cx="28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ional Hepatitis C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7" descr="hcv.JPG"/>
          <p:cNvPicPr/>
          <p:nvPr/>
        </p:nvPicPr>
        <p:blipFill>
          <a:blip r:embed="rId1"/>
          <a:stretch/>
        </p:blipFill>
        <p:spPr>
          <a:xfrm>
            <a:off x="7667640" y="18900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8"/>
          <p:cNvSpPr/>
          <p:nvPr/>
        </p:nvSpPr>
        <p:spPr>
          <a:xfrm>
            <a:off x="0" y="98100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ale sex and genotype 3 (vs genotype 1) were independently associated with HCC in chronically infected particip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ose infected through blood transfusion or clotting factors were significantly more likely to develop HCC than anti-D cohor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98280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Deaths in haemophilia coh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itle 1"/>
          <p:cNvSpPr/>
          <p:nvPr/>
        </p:nvSpPr>
        <p:spPr>
          <a:xfrm>
            <a:off x="4716360" y="260280"/>
            <a:ext cx="28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ional Hepatitis C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7" descr="hcv.JPG"/>
          <p:cNvPicPr/>
          <p:nvPr/>
        </p:nvPicPr>
        <p:blipFill>
          <a:blip r:embed="rId1"/>
          <a:stretch/>
        </p:blipFill>
        <p:spPr>
          <a:xfrm>
            <a:off x="7667640" y="18900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186" name="Straight Connector 8"/>
          <p:cNvSpPr/>
          <p:nvPr/>
        </p:nvSpPr>
        <p:spPr>
          <a:xfrm>
            <a:off x="0" y="98100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74 had died by latest follow-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47 were HIV positive, 27 HIV neg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ver-related death in 23% HIV positive and 39% HIV neg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any HIV positive had died from HIV-related causes prior to effective antiretroviral treat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7854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HCV Treatment courses by type and %SVR, </a:t>
            </a:r>
            <a:br>
              <a:rPr sz="3200"/>
            </a:b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1992-2013 - All database particip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itle 1"/>
          <p:cNvSpPr/>
          <p:nvPr/>
        </p:nvSpPr>
        <p:spPr>
          <a:xfrm>
            <a:off x="4716360" y="260280"/>
            <a:ext cx="28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ional Hepatitis C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7" descr="hcv.JPG"/>
          <p:cNvPicPr/>
          <p:nvPr/>
        </p:nvPicPr>
        <p:blipFill>
          <a:blip r:embed="rId1"/>
          <a:stretch/>
        </p:blipFill>
        <p:spPr>
          <a:xfrm>
            <a:off x="7667640" y="18900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191" name="Straight Connector 8"/>
          <p:cNvSpPr/>
          <p:nvPr/>
        </p:nvSpPr>
        <p:spPr>
          <a:xfrm>
            <a:off x="0" y="98100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163440" y="2421000"/>
            <a:ext cx="881712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98280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HCV treatment in haemophiliac coh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4716360" y="260280"/>
            <a:ext cx="28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ional Hepatitis C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hcv.JPG"/>
          <p:cNvPicPr/>
          <p:nvPr/>
        </p:nvPicPr>
        <p:blipFill>
          <a:blip r:embed="rId1"/>
          <a:stretch/>
        </p:blipFill>
        <p:spPr>
          <a:xfrm>
            <a:off x="7667640" y="18900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196" name="Straight Connector 8"/>
          <p:cNvSpPr/>
          <p:nvPr/>
        </p:nvSpPr>
        <p:spPr>
          <a:xfrm>
            <a:off x="0" y="98100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ixty (56%) haemophiliacs had received anti-viral treatment for HCV by latest follow-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reatment outcome available for 5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SVR 65.5% for last trea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eg-IFN &amp; RBV in treatment naïve haemophilia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SVR 36% for genoty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SVR 69% for genotype 2/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8280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Objectives of the data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4716360" y="260280"/>
            <a:ext cx="28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ional Hepatitis C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hcv.JPG"/>
          <p:cNvPicPr/>
          <p:nvPr/>
        </p:nvPicPr>
        <p:blipFill>
          <a:blip r:embed="rId1"/>
          <a:stretch/>
        </p:blipFill>
        <p:spPr>
          <a:xfrm>
            <a:off x="7667640" y="18900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60" name="Straight Connector 8"/>
          <p:cNvSpPr/>
          <p:nvPr/>
        </p:nvSpPr>
        <p:spPr>
          <a:xfrm>
            <a:off x="0" y="98100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  <a:ea typeface="Arial"/>
              </a:rPr>
              <a:t>To follow the natural history of hepatitis C infection in people infected through blood/blood products administered in Irel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  <a:ea typeface="Arial"/>
              </a:rPr>
              <a:t>To evaluate the impact of host factors on disease progres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  <a:ea typeface="Arial"/>
              </a:rPr>
              <a:t>To evaluate the outcomes of treat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  <a:ea typeface="Arial"/>
              </a:rPr>
              <a:t>To provide information for planning health servic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  <a:ea typeface="Arial"/>
              </a:rPr>
              <a:t>To serve as a resource for resear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8280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Acknowledgemen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itle 1"/>
          <p:cNvSpPr/>
          <p:nvPr/>
        </p:nvSpPr>
        <p:spPr>
          <a:xfrm>
            <a:off x="4716360" y="260280"/>
            <a:ext cx="28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ional Hepatitis C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7" descr="hcv.JPG"/>
          <p:cNvPicPr/>
          <p:nvPr/>
        </p:nvPicPr>
        <p:blipFill>
          <a:blip r:embed="rId1"/>
          <a:stretch/>
        </p:blipFill>
        <p:spPr>
          <a:xfrm>
            <a:off x="7667640" y="18900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201" name="Straight Connector 8"/>
          <p:cNvSpPr/>
          <p:nvPr/>
        </p:nvSpPr>
        <p:spPr>
          <a:xfrm>
            <a:off x="0" y="98100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ll database particip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atient support group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rish Haemophilia Society, Transfusion Positive, Positive Action, Irish Kidney Assoc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taff in the eight hepatology 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atabase Steering Committ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y colleagues in HPSC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Paula Flanagan, Niamh Murphy, Margaret McI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8280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itle 1"/>
          <p:cNvSpPr/>
          <p:nvPr/>
        </p:nvSpPr>
        <p:spPr>
          <a:xfrm>
            <a:off x="4716360" y="260280"/>
            <a:ext cx="28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ional Hepatitis C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7" descr="hcv.JPG"/>
          <p:cNvPicPr/>
          <p:nvPr/>
        </p:nvPicPr>
        <p:blipFill>
          <a:blip r:embed="rId1"/>
          <a:stretch/>
        </p:blipFill>
        <p:spPr>
          <a:xfrm>
            <a:off x="7667640" y="18900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206" name="Straight Connector 8"/>
          <p:cNvSpPr/>
          <p:nvPr/>
        </p:nvSpPr>
        <p:spPr>
          <a:xfrm>
            <a:off x="0" y="98100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1f497d"/>
                </a:solidFill>
                <a:latin typeface="Calibri"/>
              </a:rPr>
              <a:t>www.hcvdatabase.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000" spc="-1" strike="noStrike">
                <a:solidFill>
                  <a:srgbClr val="1f497d"/>
                </a:solidFill>
                <a:latin typeface="Calibri"/>
                <a:ea typeface="Arial"/>
              </a:rPr>
              <a:t>Confidentiality and security</a:t>
            </a:r>
            <a:br>
              <a:rPr sz="29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4716360" y="260280"/>
            <a:ext cx="28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ional Hepatitis C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hcv.JPG"/>
          <p:cNvPicPr/>
          <p:nvPr/>
        </p:nvPicPr>
        <p:blipFill>
          <a:blip r:embed="rId1"/>
          <a:stretch/>
        </p:blipFill>
        <p:spPr>
          <a:xfrm>
            <a:off x="7667640" y="18900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65" name="Straight Connector 8"/>
          <p:cNvSpPr/>
          <p:nvPr/>
        </p:nvSpPr>
        <p:spPr>
          <a:xfrm>
            <a:off x="0" y="98100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  <a:ea typeface="Arial"/>
              </a:rPr>
              <a:t>No names or addr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  <a:ea typeface="Arial"/>
              </a:rPr>
              <a:t>Consent required except for decea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  <a:ea typeface="Arial"/>
              </a:rPr>
              <a:t>Ethics approval from hospit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  <a:ea typeface="Arial"/>
              </a:rPr>
              <a:t>Eligible patients identified by hepatology 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  <a:ea typeface="Arial"/>
              </a:rPr>
              <a:t>Data from medical records in hepatology units – no direct contact with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  <a:ea typeface="Arial"/>
              </a:rPr>
              <a:t>High levels of database 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8280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Type of data collect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4716360" y="260280"/>
            <a:ext cx="28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ional Hepatitis C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hcv.JPG"/>
          <p:cNvPicPr/>
          <p:nvPr/>
        </p:nvPicPr>
        <p:blipFill>
          <a:blip r:embed="rId1"/>
          <a:stretch/>
        </p:blipFill>
        <p:spPr>
          <a:xfrm>
            <a:off x="7667640" y="18900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70" name="Straight Connector 8"/>
          <p:cNvSpPr/>
          <p:nvPr/>
        </p:nvSpPr>
        <p:spPr>
          <a:xfrm>
            <a:off x="0" y="98100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  <a:ea typeface="Arial"/>
              </a:rPr>
              <a:t>Demographic and lifestyle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  <a:ea typeface="Arial"/>
              </a:rPr>
              <a:t>Infection deta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  <a:ea typeface="Arial"/>
              </a:rPr>
              <a:t>Laboratory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  <a:ea typeface="Arial"/>
              </a:rPr>
              <a:t>Clinical sta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  <a:ea typeface="Arial"/>
              </a:rPr>
              <a:t>Cause and date of d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  <a:ea typeface="Arial"/>
              </a:rPr>
              <a:t>Treatment deta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  <a:ea typeface="Arial"/>
              </a:rPr>
              <a:t>Clinical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8280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1f497d"/>
                </a:solidFill>
                <a:latin typeface="Calibri"/>
              </a:rPr>
              <a:t>5 rounds of data collection: Baseline 2005</a:t>
            </a:r>
            <a:br>
              <a:rPr sz="2900"/>
            </a:br>
            <a:r>
              <a:rPr b="1" lang="en-US" sz="2900" spc="-1" strike="noStrike">
                <a:solidFill>
                  <a:srgbClr val="1f497d"/>
                </a:solidFill>
                <a:latin typeface="Calibri"/>
              </a:rPr>
              <a:t>Follow-up 2007, 2008, 2009, 2013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4716360" y="260280"/>
            <a:ext cx="28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ional Hepatitis C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hcv.JPG"/>
          <p:cNvPicPr/>
          <p:nvPr/>
        </p:nvPicPr>
        <p:blipFill>
          <a:blip r:embed="rId1"/>
          <a:stretch/>
        </p:blipFill>
        <p:spPr>
          <a:xfrm>
            <a:off x="7667640" y="18900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75" name="Straight Connector 8"/>
          <p:cNvSpPr/>
          <p:nvPr/>
        </p:nvSpPr>
        <p:spPr>
          <a:xfrm>
            <a:off x="0" y="98100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2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2819160" cy="3993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3"/>
          <a:stretch/>
        </p:blipFill>
        <p:spPr>
          <a:xfrm rot="720000">
            <a:off x="3406680" y="2382840"/>
            <a:ext cx="2826000" cy="4013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4"/>
          <a:stretch/>
        </p:blipFill>
        <p:spPr>
          <a:xfrm rot="1123200">
            <a:off x="4929120" y="2371680"/>
            <a:ext cx="2825640" cy="4006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5"/>
          <a:stretch/>
        </p:blipFill>
        <p:spPr>
          <a:xfrm rot="2100000">
            <a:off x="5327280" y="3223800"/>
            <a:ext cx="28130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8280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Latest data period 2010-201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4716360" y="260280"/>
            <a:ext cx="28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ional Hepatitis C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hcv.JPG"/>
          <p:cNvPicPr/>
          <p:nvPr/>
        </p:nvPicPr>
        <p:blipFill>
          <a:blip r:embed="rId1"/>
          <a:stretch/>
        </p:blipFill>
        <p:spPr>
          <a:xfrm>
            <a:off x="7667640" y="18900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83" name="Straight Connector 8"/>
          <p:cNvSpPr/>
          <p:nvPr/>
        </p:nvSpPr>
        <p:spPr>
          <a:xfrm>
            <a:off x="0" y="98100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Definitions/assump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Year of infection or year first received clotting factors or year of diagno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HCV RNA 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Ever chronic inf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Current chronic infection (includes deceas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Alive and current chronic inf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Chronic infection in p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Never chronic infection (liver disease ra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No RNA results (22% haemophiliacs, all deceas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tle 1"/>
          <p:cNvSpPr/>
          <p:nvPr/>
        </p:nvSpPr>
        <p:spPr>
          <a:xfrm>
            <a:off x="4716360" y="260280"/>
            <a:ext cx="28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ional Hepatitis C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7" descr="hcv.JPG"/>
          <p:cNvPicPr/>
          <p:nvPr/>
        </p:nvPicPr>
        <p:blipFill>
          <a:blip r:embed="rId1"/>
          <a:stretch/>
        </p:blipFill>
        <p:spPr>
          <a:xfrm>
            <a:off x="7667640" y="18900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87" name="Straight Connector 8"/>
          <p:cNvSpPr/>
          <p:nvPr/>
        </p:nvSpPr>
        <p:spPr>
          <a:xfrm>
            <a:off x="0" y="98100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2023920" y="1197000"/>
            <a:ext cx="5642280" cy="5481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25000"/>
            <a:ext cx="8640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1f497d"/>
                </a:solidFill>
                <a:latin typeface="Calibri"/>
              </a:rPr>
              <a:t>Number of haemophiliac participants by data collection period (latest participation=73.3%, 165/225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itle 1"/>
          <p:cNvSpPr/>
          <p:nvPr/>
        </p:nvSpPr>
        <p:spPr>
          <a:xfrm>
            <a:off x="4716360" y="260280"/>
            <a:ext cx="28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ational Hepatitis C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7" descr="hcv.JPG"/>
          <p:cNvPicPr/>
          <p:nvPr/>
        </p:nvPicPr>
        <p:blipFill>
          <a:blip r:embed="rId1"/>
          <a:stretch/>
        </p:blipFill>
        <p:spPr>
          <a:xfrm>
            <a:off x="7667640" y="189000"/>
            <a:ext cx="720720" cy="718920"/>
          </a:xfrm>
          <a:prstGeom prst="rect">
            <a:avLst/>
          </a:prstGeom>
          <a:ln w="0">
            <a:noFill/>
          </a:ln>
        </p:spPr>
      </p:pic>
      <p:sp>
        <p:nvSpPr>
          <p:cNvPr id="93" name="Straight Connector 8"/>
          <p:cNvSpPr/>
          <p:nvPr/>
        </p:nvSpPr>
        <p:spPr>
          <a:xfrm>
            <a:off x="0" y="98100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Content Placeholder 11" descr=""/>
          <p:cNvPicPr/>
          <p:nvPr/>
        </p:nvPicPr>
        <p:blipFill>
          <a:blip r:embed="rId2"/>
          <a:stretch/>
        </p:blipFill>
        <p:spPr>
          <a:xfrm>
            <a:off x="901800" y="2133720"/>
            <a:ext cx="698004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0:25:57Z</dcterms:created>
  <dc:creator>paulaflanagan</dc:creator>
  <dc:description/>
  <dc:language>en-US</dc:language>
  <cp:lastModifiedBy>leliathornton</cp:lastModifiedBy>
  <dcterms:modified xsi:type="dcterms:W3CDTF">2015-06-06T19:17:53Z</dcterms:modified>
  <cp:revision>80</cp:revision>
  <dc:subject/>
  <dc:title>National Hepatitis C Database</dc:title>
</cp:coreProperties>
</file>