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1239500" cy="16002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BFB-4AA4-4FCE-9829-4EC2D036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955332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2760" y="9637920"/>
            <a:ext cx="955332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E94-CD24-4947-BE89-9A21B1A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276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840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1F3-5B7B-4733-9ECC-2DE0BEF4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2680" y="462276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2960" y="462276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2760" y="963792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2680" y="963792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02960" y="963792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21E-50BB-47A0-81C9-A107D002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2760" y="4622760"/>
            <a:ext cx="9553320" cy="960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D22-8A7A-497F-B911-18C82C1E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955332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53E-9A1F-4AD8-9F86-1C4CDFFE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098-348F-41B0-9D74-E4FF0DB3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8AE-5140-4C55-A4D1-73741EB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2760" y="1422360"/>
            <a:ext cx="9553320" cy="123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42B-5668-466E-A3DA-61D96AC8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276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FB3-E73F-4EE9-A271-DDB90D11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840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8A4-2296-4CA1-B8EF-44F75EF5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2760" y="9637920"/>
            <a:ext cx="955332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ECC-BCD6-43FF-8D85-E89426C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75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2760" y="4622760"/>
            <a:ext cx="955332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marL="584280" indent="-5842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5400" indent="-48744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6160" indent="-3888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724120" indent="-38880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3502080" indent="-38916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3502080" indent="-38916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3502080" indent="-38916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3120" y="14579280"/>
            <a:ext cx="2341440" cy="10666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39760" y="14579280"/>
            <a:ext cx="3559320" cy="10666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55000" y="14579280"/>
            <a:ext cx="2341440" cy="10666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F8F6-11B8-4677-BA92-D0B1209F2E7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P4N7703"/>
          <p:cNvPicPr/>
          <p:nvPr/>
        </p:nvPicPr>
        <p:blipFill>
          <a:blip r:embed="rId1"/>
          <a:stretch/>
        </p:blipFill>
        <p:spPr>
          <a:xfrm>
            <a:off x="5867280" y="685800"/>
            <a:ext cx="4864320" cy="3475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P4N7743"/>
          <p:cNvPicPr/>
          <p:nvPr/>
        </p:nvPicPr>
        <p:blipFill>
          <a:blip r:embed="rId2"/>
          <a:stretch/>
        </p:blipFill>
        <p:spPr>
          <a:xfrm>
            <a:off x="380880" y="5867280"/>
            <a:ext cx="2590920" cy="315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2AO9040"/>
          <p:cNvPicPr/>
          <p:nvPr/>
        </p:nvPicPr>
        <p:blipFill>
          <a:blip r:embed="rId3"/>
          <a:stretch/>
        </p:blipFill>
        <p:spPr>
          <a:xfrm>
            <a:off x="7467480" y="9220320"/>
            <a:ext cx="3256200" cy="25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2AO9057"/>
          <p:cNvPicPr/>
          <p:nvPr/>
        </p:nvPicPr>
        <p:blipFill>
          <a:blip r:embed="rId4"/>
          <a:stretch/>
        </p:blipFill>
        <p:spPr>
          <a:xfrm>
            <a:off x="384120" y="9144000"/>
            <a:ext cx="257652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WP4N7701"/>
          <p:cNvPicPr/>
          <p:nvPr/>
        </p:nvPicPr>
        <p:blipFill>
          <a:blip r:embed="rId5"/>
          <a:stretch/>
        </p:blipFill>
        <p:spPr>
          <a:xfrm>
            <a:off x="7391520" y="12192120"/>
            <a:ext cx="3416040" cy="2549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80880" y="45720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ave you ever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" y="160020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-attached a dressing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that has become loos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nstead of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changing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80880" y="3733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76520" y="45720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You should change the dressing if it becomes loosened, damp or soi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657600" y="64008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erform hand hygie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fore dressing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733920" y="94489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essing changes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using an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aseptic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838080" y="12420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e transparent semi permeable dressings as required or at least every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4" descr="12AO9065"/>
          <p:cNvPicPr/>
          <p:nvPr/>
        </p:nvPicPr>
        <p:blipFill>
          <a:blip r:embed="rId6"/>
          <a:stretch/>
        </p:blipFill>
        <p:spPr>
          <a:xfrm>
            <a:off x="7467480" y="5867280"/>
            <a:ext cx="327672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1828800" y="150876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7" descr="crest1"/>
          <p:cNvPicPr/>
          <p:nvPr/>
        </p:nvPicPr>
        <p:blipFill>
          <a:blip r:embed="rId7"/>
          <a:stretch/>
        </p:blipFill>
        <p:spPr>
          <a:xfrm>
            <a:off x="533520" y="14325480"/>
            <a:ext cx="1063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26" descr="12AO9058"/>
          <p:cNvPicPr/>
          <p:nvPr/>
        </p:nvPicPr>
        <p:blipFill>
          <a:blip r:embed="rId1"/>
          <a:stretch/>
        </p:blipFill>
        <p:spPr>
          <a:xfrm>
            <a:off x="5638680" y="762120"/>
            <a:ext cx="4098960" cy="574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7" descr="12AO9060"/>
          <p:cNvPicPr/>
          <p:nvPr/>
        </p:nvPicPr>
        <p:blipFill>
          <a:blip r:embed="rId2"/>
          <a:srcRect l="0" t="4152" r="0" b="0"/>
          <a:stretch/>
        </p:blipFill>
        <p:spPr>
          <a:xfrm>
            <a:off x="457200" y="8686800"/>
            <a:ext cx="4575240" cy="5564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29"/>
          <p:cNvSpPr/>
          <p:nvPr/>
        </p:nvSpPr>
        <p:spPr>
          <a:xfrm>
            <a:off x="380880" y="45720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ave you ever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0"/>
          <p:cNvSpPr/>
          <p:nvPr/>
        </p:nvSpPr>
        <p:spPr>
          <a:xfrm>
            <a:off x="457200" y="19810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Taken blood cultures from a central line onl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1"/>
          <p:cNvSpPr/>
          <p:nvPr/>
        </p:nvSpPr>
        <p:spPr>
          <a:xfrm>
            <a:off x="533520" y="4876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2"/>
          <p:cNvSpPr/>
          <p:nvPr/>
        </p:nvSpPr>
        <p:spPr>
          <a:xfrm>
            <a:off x="609480" y="67816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33cc"/>
                </a:solidFill>
                <a:latin typeface="Arial"/>
              </a:rPr>
              <a:t>A peripheral blood culture should be taken at  the sam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33"/>
          <p:cNvSpPr/>
          <p:nvPr/>
        </p:nvSpPr>
        <p:spPr>
          <a:xfrm>
            <a:off x="5638680" y="13335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Overuse of antibiotics leads to antibiotic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4"/>
          <p:cNvSpPr/>
          <p:nvPr/>
        </p:nvSpPr>
        <p:spPr>
          <a:xfrm>
            <a:off x="5715000" y="1097280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eripheral and central  blood cultures can establish Catheter related bloodstream infection and  whether antibiotic therapy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5"/>
          <p:cNvSpPr/>
          <p:nvPr/>
        </p:nvSpPr>
        <p:spPr>
          <a:xfrm>
            <a:off x="5638680" y="8763120"/>
            <a:ext cx="49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diagnosis of Catheter related bloodstream infection cannot be made based on a positive central line culture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36" descr="crest1"/>
          <p:cNvPicPr/>
          <p:nvPr/>
        </p:nvPicPr>
        <p:blipFill>
          <a:blip r:embed="rId3"/>
          <a:stretch/>
        </p:blipFill>
        <p:spPr>
          <a:xfrm>
            <a:off x="533520" y="14325480"/>
            <a:ext cx="106344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39"/>
          <p:cNvSpPr/>
          <p:nvPr/>
        </p:nvSpPr>
        <p:spPr>
          <a:xfrm>
            <a:off x="2090880" y="14697000"/>
            <a:ext cx="86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12AO9051"/>
          <p:cNvPicPr/>
          <p:nvPr/>
        </p:nvPicPr>
        <p:blipFill>
          <a:blip r:embed="rId1"/>
          <a:stretch/>
        </p:blipFill>
        <p:spPr>
          <a:xfrm>
            <a:off x="7315200" y="380880"/>
            <a:ext cx="3459240" cy="398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2AO9055"/>
          <p:cNvPicPr/>
          <p:nvPr/>
        </p:nvPicPr>
        <p:blipFill>
          <a:blip r:embed="rId2"/>
          <a:stretch/>
        </p:blipFill>
        <p:spPr>
          <a:xfrm>
            <a:off x="6324480" y="8001000"/>
            <a:ext cx="2630520" cy="368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12AO9057"/>
          <p:cNvPicPr/>
          <p:nvPr/>
        </p:nvPicPr>
        <p:blipFill>
          <a:blip r:embed="rId3"/>
          <a:stretch/>
        </p:blipFill>
        <p:spPr>
          <a:xfrm>
            <a:off x="685800" y="5715000"/>
            <a:ext cx="2500200" cy="3505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685800" y="609480"/>
            <a:ext cx="601992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Remember 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lway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 an aseptic technique when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preparing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ministering T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62120" y="3733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715000" y="12496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spect the site daily and record findings in nursing notes or car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62120" y="97534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designated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lumen and specific TPN needleless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343400" y="62485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member to use sterile gloves, one pair for priming the IV tubing  and another pair for attaching the IV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685800" y="4572000"/>
            <a:ext cx="944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 u="sng">
                <a:solidFill>
                  <a:srgbClr val="6600cc"/>
                </a:solidFill>
                <a:uFillTx/>
                <a:latin typeface="Arial"/>
              </a:rPr>
              <a:t>Strict aseptic technique</a:t>
            </a:r>
            <a:r>
              <a:rPr b="1" lang="en-IE" sz="3200" spc="-1" strike="noStrike">
                <a:solidFill>
                  <a:srgbClr val="6600cc"/>
                </a:solidFill>
                <a:latin typeface="Arial"/>
              </a:rPr>
              <a:t> must be used for all manipulations of the TPN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762120" y="14173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member to remove the line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8" descr="WP4N7710"/>
          <p:cNvPicPr/>
          <p:nvPr/>
        </p:nvPicPr>
        <p:blipFill>
          <a:blip r:embed="rId4"/>
          <a:srcRect l="0" t="17087" r="0" b="3071"/>
          <a:stretch/>
        </p:blipFill>
        <p:spPr>
          <a:xfrm>
            <a:off x="838080" y="11353680"/>
            <a:ext cx="3733920" cy="21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crest1"/>
          <p:cNvPicPr/>
          <p:nvPr/>
        </p:nvPicPr>
        <p:blipFill>
          <a:blip r:embed="rId5"/>
          <a:stretch/>
        </p:blipFill>
        <p:spPr>
          <a:xfrm>
            <a:off x="9753480" y="14325480"/>
            <a:ext cx="1063800" cy="1143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1"/>
          <p:cNvSpPr/>
          <p:nvPr/>
        </p:nvSpPr>
        <p:spPr>
          <a:xfrm>
            <a:off x="609480" y="15087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80880" y="304920"/>
            <a:ext cx="1021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0000"/>
                </a:solidFill>
                <a:latin typeface="Arial"/>
              </a:rPr>
              <a:t>Changing central venous catheter site dress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7524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257800" y="495288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3. Using personal protective equipment remove old dressing. Examine site for redness, oozing and catheter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3520" y="4038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2. Prepare steril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066680" y="2743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1. Perform hand 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09480" y="70866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4. Perform hand hygiene again and put on sterile gl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267080" y="8915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5. Clean insertion site from inside out using  Chlorhexadine in Alcohol and allow to air dry for 3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495680" y="10439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6. Clean length of catheter from insertio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33520" y="11506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7. Apply semi-permeable transparent 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33520" y="124207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8. Clean lumens from needleless device to junction and aseptically change needleless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9480" y="13944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9. Date dressing and document in nursing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6" descr="12AO9065"/>
          <p:cNvPicPr/>
          <p:nvPr/>
        </p:nvPicPr>
        <p:blipFill>
          <a:blip r:embed="rId1"/>
          <a:stretch/>
        </p:blipFill>
        <p:spPr>
          <a:xfrm>
            <a:off x="5181480" y="2362320"/>
            <a:ext cx="3048120" cy="217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WP4N7743"/>
          <p:cNvPicPr/>
          <p:nvPr/>
        </p:nvPicPr>
        <p:blipFill>
          <a:blip r:embed="rId2"/>
          <a:stretch/>
        </p:blipFill>
        <p:spPr>
          <a:xfrm>
            <a:off x="8686800" y="1981080"/>
            <a:ext cx="1868400" cy="261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WP4N7701"/>
          <p:cNvPicPr/>
          <p:nvPr/>
        </p:nvPicPr>
        <p:blipFill>
          <a:blip r:embed="rId3"/>
          <a:stretch/>
        </p:blipFill>
        <p:spPr>
          <a:xfrm>
            <a:off x="6934320" y="11506320"/>
            <a:ext cx="2971800" cy="21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12AO9040"/>
          <p:cNvPicPr/>
          <p:nvPr/>
        </p:nvPicPr>
        <p:blipFill>
          <a:blip r:embed="rId4"/>
          <a:stretch/>
        </p:blipFill>
        <p:spPr>
          <a:xfrm>
            <a:off x="533520" y="4495680"/>
            <a:ext cx="3444840" cy="207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12AO9057"/>
          <p:cNvPicPr/>
          <p:nvPr/>
        </p:nvPicPr>
        <p:blipFill>
          <a:blip r:embed="rId5"/>
          <a:srcRect l="0" t="8303" r="5044" b="24920"/>
          <a:stretch/>
        </p:blipFill>
        <p:spPr>
          <a:xfrm>
            <a:off x="609480" y="8305920"/>
            <a:ext cx="2587680" cy="25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crest1"/>
          <p:cNvPicPr/>
          <p:nvPr/>
        </p:nvPicPr>
        <p:blipFill>
          <a:blip r:embed="rId6"/>
          <a:stretch/>
        </p:blipFill>
        <p:spPr>
          <a:xfrm>
            <a:off x="9829800" y="14478120"/>
            <a:ext cx="10638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WP4N7712"/>
          <p:cNvPicPr/>
          <p:nvPr/>
        </p:nvPicPr>
        <p:blipFill>
          <a:blip r:embed="rId7"/>
          <a:srcRect l="0" t="0" r="0" b="9449"/>
          <a:stretch/>
        </p:blipFill>
        <p:spPr>
          <a:xfrm>
            <a:off x="7467480" y="6553080"/>
            <a:ext cx="3200400" cy="207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5"/>
          <p:cNvSpPr/>
          <p:nvPr/>
        </p:nvSpPr>
        <p:spPr>
          <a:xfrm>
            <a:off x="609480" y="15087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3:37:50Z</dcterms:created>
  <dc:creator>12001897</dc:creator>
  <dc:description/>
  <dc:language>en-US</dc:language>
  <cp:lastModifiedBy>fidelmafitzpatrick</cp:lastModifiedBy>
  <dcterms:modified xsi:type="dcterms:W3CDTF">2010-08-03T15:59:25Z</dcterms:modified>
  <cp:revision>23</cp:revision>
  <dc:subject/>
  <dc:title>PowerPoint Presentation</dc:title>
</cp:coreProperties>
</file>