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1239500" cy="16002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73E-0E44-46AF-8E00-CFD7D0EC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955332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2760" y="9637920"/>
            <a:ext cx="955332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4FC-2B7F-4652-905F-F2226386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3840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2760" y="963792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38400" y="963792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D9D-6701-40C5-ACC3-8841FF1B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2680" y="462276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02960" y="462276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2760" y="963792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2680" y="963792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02960" y="9637920"/>
            <a:ext cx="307584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339-D303-4923-83DC-2168D6ED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2760" y="4622760"/>
            <a:ext cx="9553320" cy="960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E54-5ED7-4617-B8D4-88D2C3F0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955332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62F-960F-444F-94C5-7C8FAF31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466200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38400" y="4622760"/>
            <a:ext cx="466200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A55-16D7-4B1D-8F24-D9482E9E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002-D9D3-4ECC-A8D6-5D662AB9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2760" y="1422360"/>
            <a:ext cx="9553320" cy="123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8CE-6400-4581-855A-82B46A6D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38400" y="4622760"/>
            <a:ext cx="466200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2760" y="963792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D46-9835-46E8-84DA-75254F7B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466200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3840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38400" y="963792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256-3718-45B6-BBDB-7AA1C449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276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38400" y="4622760"/>
            <a:ext cx="466200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2760" y="9637920"/>
            <a:ext cx="9553320" cy="457956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977-688C-452A-8D1E-1B5873C8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2760" y="1422360"/>
            <a:ext cx="9553320" cy="26668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ctr">
            <a:noAutofit/>
          </a:bodyPr>
          <a:p>
            <a:pPr indent="0" algn="ctr">
              <a:buNone/>
              <a:tabLst>
                <a:tab algn="l" pos="0"/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75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2760" y="4622760"/>
            <a:ext cx="9553320" cy="960120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rmAutofit/>
          </a:bodyPr>
          <a:p>
            <a:pPr marL="584280" indent="-5842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65400" indent="-487440"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6160" indent="-3888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2724120" indent="-388800"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3502080" indent="-389160">
              <a:spcBef>
                <a:spcPts val="1349"/>
              </a:spcBef>
              <a:buClr>
                <a:srgbClr val="000000"/>
              </a:buClr>
              <a:buFont typeface="Times New Roman"/>
              <a:buChar char="»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3502080" indent="-389160">
              <a:spcBef>
                <a:spcPts val="1349"/>
              </a:spcBef>
              <a:buClr>
                <a:srgbClr val="000000"/>
              </a:buClr>
              <a:buFont typeface="Times New Roman"/>
              <a:buChar char="»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3502080" indent="-389160">
              <a:spcBef>
                <a:spcPts val="1349"/>
              </a:spcBef>
              <a:buClr>
                <a:srgbClr val="000000"/>
              </a:buClr>
              <a:buFont typeface="Times New Roman"/>
              <a:buChar char="»"/>
              <a:tabLst>
                <a:tab algn="l" pos="1557360"/>
                <a:tab algn="l" pos="3114720"/>
                <a:tab algn="l" pos="4672080"/>
                <a:tab algn="l" pos="6229440"/>
                <a:tab algn="l" pos="7786800"/>
                <a:tab algn="l" pos="9344160"/>
                <a:tab algn="l" pos="10901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3120" y="14579280"/>
            <a:ext cx="2341440" cy="10666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39760" y="14579280"/>
            <a:ext cx="3559320" cy="10666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55000" y="14579280"/>
            <a:ext cx="2341440" cy="1066680"/>
          </a:xfrm>
          <a:prstGeom prst="rect">
            <a:avLst/>
          </a:prstGeom>
          <a:noFill/>
          <a:ln w="0">
            <a:noFill/>
          </a:ln>
        </p:spPr>
        <p:txBody>
          <a:bodyPr lIns="155520" rIns="155520" tIns="77760" bIns="77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D256-2E10-4033-9887-A2C47955B20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WP4N7703"/>
          <p:cNvPicPr/>
          <p:nvPr/>
        </p:nvPicPr>
        <p:blipFill>
          <a:blip r:embed="rId1"/>
          <a:stretch/>
        </p:blipFill>
        <p:spPr>
          <a:xfrm>
            <a:off x="5867280" y="685800"/>
            <a:ext cx="4864320" cy="3475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WP4N7743"/>
          <p:cNvPicPr/>
          <p:nvPr/>
        </p:nvPicPr>
        <p:blipFill>
          <a:blip r:embed="rId2"/>
          <a:stretch/>
        </p:blipFill>
        <p:spPr>
          <a:xfrm>
            <a:off x="380880" y="5867280"/>
            <a:ext cx="2590920" cy="315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2AO9040"/>
          <p:cNvPicPr/>
          <p:nvPr/>
        </p:nvPicPr>
        <p:blipFill>
          <a:blip r:embed="rId3"/>
          <a:stretch/>
        </p:blipFill>
        <p:spPr>
          <a:xfrm>
            <a:off x="7467480" y="9220320"/>
            <a:ext cx="3256200" cy="259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2AO9057"/>
          <p:cNvPicPr/>
          <p:nvPr/>
        </p:nvPicPr>
        <p:blipFill>
          <a:blip r:embed="rId4"/>
          <a:stretch/>
        </p:blipFill>
        <p:spPr>
          <a:xfrm>
            <a:off x="384120" y="9144000"/>
            <a:ext cx="257652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WP4N7701"/>
          <p:cNvPicPr/>
          <p:nvPr/>
        </p:nvPicPr>
        <p:blipFill>
          <a:blip r:embed="rId5"/>
          <a:stretch/>
        </p:blipFill>
        <p:spPr>
          <a:xfrm>
            <a:off x="7391520" y="12192120"/>
            <a:ext cx="3416040" cy="2549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380880" y="45720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ave you ever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57200" y="160020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-attached a dressing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that has become loos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instead of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changing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80880" y="3733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hat should you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676520" y="45720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You should change the dressing if it becomes loosened, damp or soi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657600" y="64008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Perform hand hygie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fore dressing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733920" y="94489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Perform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essing changes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using an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aseptic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838080" y="124207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e transparent semi permeable dressings as required or at least every 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4" descr="12AO9065"/>
          <p:cNvPicPr/>
          <p:nvPr/>
        </p:nvPicPr>
        <p:blipFill>
          <a:blip r:embed="rId6"/>
          <a:stretch/>
        </p:blipFill>
        <p:spPr>
          <a:xfrm>
            <a:off x="7467480" y="5867280"/>
            <a:ext cx="3276720" cy="3200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1828800" y="150876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ection Control Team, St. James’s Hospital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pt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7" descr="crest1"/>
          <p:cNvPicPr/>
          <p:nvPr/>
        </p:nvPicPr>
        <p:blipFill>
          <a:blip r:embed="rId7"/>
          <a:stretch/>
        </p:blipFill>
        <p:spPr>
          <a:xfrm>
            <a:off x="533520" y="14325480"/>
            <a:ext cx="1063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26" descr="12AO9058"/>
          <p:cNvPicPr/>
          <p:nvPr/>
        </p:nvPicPr>
        <p:blipFill>
          <a:blip r:embed="rId1"/>
          <a:stretch/>
        </p:blipFill>
        <p:spPr>
          <a:xfrm>
            <a:off x="5638680" y="762120"/>
            <a:ext cx="4098960" cy="574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27" descr="12AO9060"/>
          <p:cNvPicPr/>
          <p:nvPr/>
        </p:nvPicPr>
        <p:blipFill>
          <a:blip r:embed="rId2"/>
          <a:srcRect l="0" t="4152" r="0" b="0"/>
          <a:stretch/>
        </p:blipFill>
        <p:spPr>
          <a:xfrm>
            <a:off x="457200" y="8686800"/>
            <a:ext cx="4575240" cy="5564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29"/>
          <p:cNvSpPr/>
          <p:nvPr/>
        </p:nvSpPr>
        <p:spPr>
          <a:xfrm>
            <a:off x="380880" y="45720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ave you ever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0"/>
          <p:cNvSpPr/>
          <p:nvPr/>
        </p:nvSpPr>
        <p:spPr>
          <a:xfrm>
            <a:off x="457200" y="198108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Taken blood cultures from a central line onl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1"/>
          <p:cNvSpPr/>
          <p:nvPr/>
        </p:nvSpPr>
        <p:spPr>
          <a:xfrm>
            <a:off x="533520" y="4876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hat should you 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2"/>
          <p:cNvSpPr/>
          <p:nvPr/>
        </p:nvSpPr>
        <p:spPr>
          <a:xfrm>
            <a:off x="609480" y="678168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IE" sz="3200" spc="-1" strike="noStrike">
                <a:solidFill>
                  <a:srgbClr val="0033cc"/>
                </a:solidFill>
                <a:latin typeface="Arial"/>
              </a:rPr>
              <a:t>A peripheral blood culture should be taken at  the sam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33"/>
          <p:cNvSpPr/>
          <p:nvPr/>
        </p:nvSpPr>
        <p:spPr>
          <a:xfrm>
            <a:off x="5638680" y="133351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Overuse of antibiotics leads to antibiotic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4"/>
          <p:cNvSpPr/>
          <p:nvPr/>
        </p:nvSpPr>
        <p:spPr>
          <a:xfrm>
            <a:off x="5715000" y="1097280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Peripheral and central  blood cultures can establish Catheter related bloodstream infection and  whether antibiotic therapy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35"/>
          <p:cNvSpPr/>
          <p:nvPr/>
        </p:nvSpPr>
        <p:spPr>
          <a:xfrm>
            <a:off x="5638680" y="8763120"/>
            <a:ext cx="495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e diagnosis of Catheter related bloodstream infection cannot be made based on a positive central line culture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36" descr="crest1"/>
          <p:cNvPicPr/>
          <p:nvPr/>
        </p:nvPicPr>
        <p:blipFill>
          <a:blip r:embed="rId3"/>
          <a:stretch/>
        </p:blipFill>
        <p:spPr>
          <a:xfrm>
            <a:off x="533520" y="14325480"/>
            <a:ext cx="106344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39"/>
          <p:cNvSpPr/>
          <p:nvPr/>
        </p:nvSpPr>
        <p:spPr>
          <a:xfrm>
            <a:off x="2090880" y="14697000"/>
            <a:ext cx="86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ection Control Team, St. James’s Hospital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pt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12AO9051"/>
          <p:cNvPicPr/>
          <p:nvPr/>
        </p:nvPicPr>
        <p:blipFill>
          <a:blip r:embed="rId1"/>
          <a:stretch/>
        </p:blipFill>
        <p:spPr>
          <a:xfrm>
            <a:off x="7315200" y="380880"/>
            <a:ext cx="3459240" cy="398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12AO9055"/>
          <p:cNvPicPr/>
          <p:nvPr/>
        </p:nvPicPr>
        <p:blipFill>
          <a:blip r:embed="rId2"/>
          <a:stretch/>
        </p:blipFill>
        <p:spPr>
          <a:xfrm>
            <a:off x="6324480" y="8001000"/>
            <a:ext cx="2630520" cy="368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12AO9057"/>
          <p:cNvPicPr/>
          <p:nvPr/>
        </p:nvPicPr>
        <p:blipFill>
          <a:blip r:embed="rId3"/>
          <a:stretch/>
        </p:blipFill>
        <p:spPr>
          <a:xfrm>
            <a:off x="685800" y="5715000"/>
            <a:ext cx="2500200" cy="3505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685800" y="609480"/>
            <a:ext cx="601992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Remember 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lway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e an aseptic technique when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preparing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ministering T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62120" y="3733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hat should you 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715000" y="12496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Inspect the site daily and record findings in nursing notes or car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62120" y="97534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designated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lumen and specific TPN needleless de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343400" y="62485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Remember to use sterile gloves, one pair for priming the IV tubing  and another pair for attaching the IV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685800" y="4572000"/>
            <a:ext cx="944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 u="sng">
                <a:solidFill>
                  <a:srgbClr val="6600cc"/>
                </a:solidFill>
                <a:uFillTx/>
                <a:latin typeface="Arial"/>
              </a:rPr>
              <a:t>Strict aseptic technique</a:t>
            </a:r>
            <a:r>
              <a:rPr b="1" lang="en-IE" sz="3200" spc="-1" strike="noStrike">
                <a:solidFill>
                  <a:srgbClr val="6600cc"/>
                </a:solidFill>
                <a:latin typeface="Arial"/>
              </a:rPr>
              <a:t> must be used for all manipulations of the TPN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762120" y="141732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Remember to remove the line when no longer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8" descr="WP4N7710"/>
          <p:cNvPicPr/>
          <p:nvPr/>
        </p:nvPicPr>
        <p:blipFill>
          <a:blip r:embed="rId4"/>
          <a:srcRect l="0" t="17087" r="0" b="3071"/>
          <a:stretch/>
        </p:blipFill>
        <p:spPr>
          <a:xfrm>
            <a:off x="838080" y="11353680"/>
            <a:ext cx="3733920" cy="212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crest1"/>
          <p:cNvPicPr/>
          <p:nvPr/>
        </p:nvPicPr>
        <p:blipFill>
          <a:blip r:embed="rId5"/>
          <a:stretch/>
        </p:blipFill>
        <p:spPr>
          <a:xfrm>
            <a:off x="9753480" y="14325480"/>
            <a:ext cx="1063800" cy="1143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1"/>
          <p:cNvSpPr/>
          <p:nvPr/>
        </p:nvSpPr>
        <p:spPr>
          <a:xfrm>
            <a:off x="609480" y="15087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ection Control Team, St. James’s Hospital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pt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80880" y="304920"/>
            <a:ext cx="1021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0000"/>
                </a:solidFill>
                <a:latin typeface="Arial"/>
              </a:rPr>
              <a:t>Changing central venous catheter site dress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17524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hat should you 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257800" y="495288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3. Using personal protective equipment remove old dressing. Examine site for redness, oozing and catheter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33520" y="4038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2. Prepare steril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066680" y="2743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1. Perform hand 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09480" y="70866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4. Perform hand hygiene again and put on sterile gl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267080" y="89154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5. Clean insertion site from inside out using  Chlorhexadine in Alcohol and allow to air dry for 3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495680" y="104392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6. Clean length of catheter from insertion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533520" y="11506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7. Apply semi-permeable transparent 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33520" y="124207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8. Clean lumens from needleless device to junction and aseptically change needleless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09480" y="139446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9. Date dressing and document in nursing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6" descr="12AO9065"/>
          <p:cNvPicPr/>
          <p:nvPr/>
        </p:nvPicPr>
        <p:blipFill>
          <a:blip r:embed="rId1"/>
          <a:stretch/>
        </p:blipFill>
        <p:spPr>
          <a:xfrm>
            <a:off x="5181480" y="2362320"/>
            <a:ext cx="3048120" cy="217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WP4N7743"/>
          <p:cNvPicPr/>
          <p:nvPr/>
        </p:nvPicPr>
        <p:blipFill>
          <a:blip r:embed="rId2"/>
          <a:stretch/>
        </p:blipFill>
        <p:spPr>
          <a:xfrm>
            <a:off x="8686800" y="1981080"/>
            <a:ext cx="1868400" cy="2617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WP4N7701"/>
          <p:cNvPicPr/>
          <p:nvPr/>
        </p:nvPicPr>
        <p:blipFill>
          <a:blip r:embed="rId3"/>
          <a:stretch/>
        </p:blipFill>
        <p:spPr>
          <a:xfrm>
            <a:off x="6934320" y="11506320"/>
            <a:ext cx="2971800" cy="21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12AO9040"/>
          <p:cNvPicPr/>
          <p:nvPr/>
        </p:nvPicPr>
        <p:blipFill>
          <a:blip r:embed="rId4"/>
          <a:stretch/>
        </p:blipFill>
        <p:spPr>
          <a:xfrm>
            <a:off x="533520" y="4495680"/>
            <a:ext cx="3444840" cy="207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1" descr="12AO9057"/>
          <p:cNvPicPr/>
          <p:nvPr/>
        </p:nvPicPr>
        <p:blipFill>
          <a:blip r:embed="rId5"/>
          <a:srcRect l="0" t="8303" r="5044" b="24920"/>
          <a:stretch/>
        </p:blipFill>
        <p:spPr>
          <a:xfrm>
            <a:off x="609480" y="8305920"/>
            <a:ext cx="2587680" cy="255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2" descr="crest1"/>
          <p:cNvPicPr/>
          <p:nvPr/>
        </p:nvPicPr>
        <p:blipFill>
          <a:blip r:embed="rId6"/>
          <a:stretch/>
        </p:blipFill>
        <p:spPr>
          <a:xfrm>
            <a:off x="9829800" y="14478120"/>
            <a:ext cx="106380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WP4N7712"/>
          <p:cNvPicPr/>
          <p:nvPr/>
        </p:nvPicPr>
        <p:blipFill>
          <a:blip r:embed="rId7"/>
          <a:srcRect l="0" t="0" r="0" b="9449"/>
          <a:stretch/>
        </p:blipFill>
        <p:spPr>
          <a:xfrm>
            <a:off x="7467480" y="6553080"/>
            <a:ext cx="3200400" cy="2070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5"/>
          <p:cNvSpPr/>
          <p:nvPr/>
        </p:nvSpPr>
        <p:spPr>
          <a:xfrm>
            <a:off x="609480" y="15087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ection Control Team, St. James’s Hospital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pt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3:37:50Z</dcterms:created>
  <dc:creator>12001897</dc:creator>
  <dc:description/>
  <dc:language>en-US</dc:language>
  <cp:lastModifiedBy>fidelmafitzpatrick</cp:lastModifiedBy>
  <dcterms:modified xsi:type="dcterms:W3CDTF">2010-08-03T15:59:25Z</dcterms:modified>
  <cp:revision>23</cp:revision>
  <dc:subject/>
  <dc:title>PowerPoint Presentation</dc:title>
</cp:coreProperties>
</file>