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26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13.wmf" ContentType="image/x-wmf"/>
  <Override PartName="/ppt/media/image28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27.png" ContentType="image/png"/>
  <Override PartName="/ppt/media/image7.wmf" ContentType="image/x-wmf"/>
  <Override PartName="/ppt/media/image6.jpeg" ContentType="image/jpeg"/>
  <Override PartName="/ppt/media/image9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.jpeg" ContentType="image/jpeg"/>
  <Override PartName="/ppt/media/image15.wmf" ContentType="image/x-wmf"/>
  <Override PartName="/ppt/media/image20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5.jpeg" ContentType="image/jpeg"/>
  <Override PartName="/ppt/media/image18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295E-038A-4CA9-B54A-7900F5007B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8E3F-9290-4B1F-B0B4-B3E1967E92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32A2-D5C1-4E5C-901D-833E0DBC1C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6058-DD5C-4F79-8EEC-1208EF9BCB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F725-B2AF-4680-A816-8AB4DEBC1D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051F-81D8-4B2D-9090-64849D83F3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F03C-56CD-440B-B4B6-CE8269E8C1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FF01-97FC-44A4-8852-3CF16A10C1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A679-92EB-4C87-9C83-7B3876D7CF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7730-66BD-4306-8FE3-D7D83A140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06A9-F992-4054-8A9B-CF584DBB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5669-057B-40A6-A6F2-77E58764D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90B7-D9BF-4F77-B023-609E20A3E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F0AA-3288-4512-B45E-00B166F26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6C58-1516-4DBE-A4E1-02C6978E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6063-00AE-4D4E-B2B9-C0F94741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D1DC-6B47-4001-9014-7258F5AE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4A12-20A1-4F2C-8DD8-AC4B611B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0C53-4B64-471B-8A91-ED86152B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3753-FDD0-4062-85DF-DE219E1D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E80F-C6B1-4F7A-99B2-71051B9E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A4225-40BC-4330-8118-1239567A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AC0B-1B40-4478-952C-68CF272B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CA64E-24E7-4923-A157-106861C0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EE53-6D7D-425E-857B-9B0AA78C2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5D470-6983-4313-9EE6-9AE6FF834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2072C-153E-4A23-B637-7DB06932B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31052-DBAF-4207-AD9B-B865B1B6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93408-4398-4D55-9CE4-D4115CB5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D3B1E-08AA-4185-BDE4-BAF00A0F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2895F-19D7-4F8C-AFCD-E65B084B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CA4F-638B-482C-81A4-4C72C268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85494-0AFC-4148-9CB2-85749FF8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4CA0B-7CB0-4B31-804A-B1E30054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DFB8C-2B40-4D78-8606-A87F0067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637E0-8E13-4439-BE7B-C8619C58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A5146-2FE9-420C-A02B-D9136EED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661A7-6BEB-4730-8FF6-48DBB1A6A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85CE0-4954-40FC-824C-33E5314B0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DF37F-E0F0-4499-A069-C3F45FF97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7C228-80D5-4760-AAC3-5D091A4F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0F194-F266-4632-8BF3-47E57E9F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DCD7-4E38-43E7-9CD8-23B4B175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C207E-477E-41F2-951A-977A8DA9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01694-43EA-43DB-9595-38436DD9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1CA58-23AC-48DA-9611-C4EF8222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F0A55-F614-48C3-8E05-E7080024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7AC5E-92E5-4551-A209-D40C8FD1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A11A5-A8B1-4A2C-A0CE-4D821BE7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718A6-18AD-4DDD-9F57-C3C1C2A0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24672-DA5C-4574-A40A-B0A55E8C1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E672B-C687-489E-8C8E-F437A9C60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29EF0-CED6-446E-B7B8-332DFAFE1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1EB7-5437-4C8D-978B-415BEA36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28188-3332-4120-98E4-B1958168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C8C49-4A12-4F53-9D1C-5A24D4DB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CAF5F-0477-40A8-BAB5-0499C63A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6D13D-0B10-45F8-B36B-6DEBD1D3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73736-E27A-4429-AA1B-E78CA3AB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CE9C9-118C-47C9-8BD4-A790422E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FB805-95DC-404C-82D2-1C8AD506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A5AD0-BFA1-43BF-946A-2C191A9A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71FC1-F0DF-488B-A1C4-2886BFF2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1380B-9B3E-4495-AC7D-ADD3C40A5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87EA-C0F8-4673-8A18-91D31C8A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DE4EF-3DFA-4148-9CA7-4970ECD58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855FB-973E-41C0-A8AD-F02B79EC1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76EF6-E347-446E-8F45-E3381AF3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81DA9-4FDD-412A-AFFE-D72E3D23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E971F-C4EB-4CA5-87CF-4C8DA9F7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11639-35AA-4C3B-A363-4F866D5A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48AD4-06F9-4ECA-B1FA-A87FD7C8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26C67-F6F8-4EF5-B448-4F3DFE07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3ABB0-2B61-4304-B20A-1014EC53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54602-DF7A-419F-81D1-99229E1E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932E-2453-4BB0-9084-308D649C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CE878-AEAB-42C8-9DE3-E1BDCDA2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642F6-BF61-4354-8E5E-0BC9C4FEF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EB508-55FE-4EC0-8273-8AFCFB1F4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AFF8A-5A1F-4CF2-9E8A-D6BD92AB4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32A62-D2F9-46E9-BAF4-F298884A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28445-E51F-4468-9BE4-11F3B503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4C93C-4E1E-4B91-B146-5CBB559D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17790-5506-4EB6-8B82-82824DF3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60BF7-496A-430A-BE55-01AC686D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29F80-2168-4756-A5AA-F60A15BC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DC61-A090-4B59-8332-AB588395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BCF62-C34C-4725-A7E5-8CB9677A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CCB7B-6605-4CEC-9732-737A2DBE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29786-9F11-425A-A4D9-EECBC239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6D3E4-7F7B-4097-BBCC-2F2DB5578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032A0-FA41-4289-A7F7-5CB3855D3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CBD5-9180-4A80-96E5-0835854C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34444-AC22-4AEA-AA6D-735CFB63B46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B2D6-739F-41AC-8CEF-0C17B98858E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D2AA-246B-4818-B021-198EE4AE85B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9604-816C-40B8-B0A8-1B91ACC3E08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077E-8719-4BA8-A9F8-2D301338A81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ACEF-371B-4579-98AA-DBC83DC3C42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4152-1295-4219-A5F2-348E2652BCF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7560" y="2692440"/>
            <a:ext cx="74070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00"/>
                </a:solidFill>
                <a:latin typeface="Arial"/>
                <a:ea typeface="Arial"/>
              </a:rPr>
              <a:t>Antimicrobial resistance surveillance in Ireland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300" spc="-1" strike="noStrike">
                <a:solidFill>
                  <a:srgbClr val="000000"/>
                </a:solidFill>
                <a:latin typeface="Arial"/>
                <a:ea typeface="Arial"/>
              </a:rPr>
              <a:t>Results of invasive                                        </a:t>
            </a:r>
            <a:r>
              <a:rPr b="0" i="1" lang="en-IE" sz="3300" spc="-1" strike="noStrike">
                <a:solidFill>
                  <a:srgbClr val="000000"/>
                </a:solidFill>
                <a:latin typeface="Arial"/>
                <a:ea typeface="Arial"/>
              </a:rPr>
              <a:t>Klebsiella pneumoniae </a:t>
            </a:r>
            <a:r>
              <a:rPr b="0" lang="en-IE" sz="3300" spc="-1" strike="noStrike">
                <a:solidFill>
                  <a:srgbClr val="000000"/>
                </a:solidFill>
                <a:latin typeface="Arial"/>
                <a:ea typeface="Arial"/>
              </a:rPr>
              <a:t>infection (blood/CSF) surveillance, 2009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Arial"/>
                <a:ea typeface="Arial"/>
              </a:rPr>
              <a:t>**** Data as of 01/12/2010 ****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7" name="Picture 9" descr="hpsc_logo"/>
          <p:cNvPicPr/>
          <p:nvPr/>
        </p:nvPicPr>
        <p:blipFill>
          <a:blip r:embed="rId1"/>
          <a:stretch/>
        </p:blipFill>
        <p:spPr>
          <a:xfrm>
            <a:off x="2362320" y="762120"/>
            <a:ext cx="2209680" cy="19810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1" descr="HSE logo"/>
          <p:cNvPicPr/>
          <p:nvPr/>
        </p:nvPicPr>
        <p:blipFill>
          <a:blip r:embed="rId2"/>
          <a:stretch/>
        </p:blipFill>
        <p:spPr>
          <a:xfrm>
            <a:off x="4572000" y="762120"/>
            <a:ext cx="2438280" cy="2057400"/>
          </a:xfrm>
          <a:prstGeom prst="rect">
            <a:avLst/>
          </a:prstGeom>
          <a:ln w="0">
            <a:noFill/>
          </a:ln>
        </p:spPr>
      </p:pic>
      <p:sp>
        <p:nvSpPr>
          <p:cNvPr id="329" name="TextBox 7"/>
          <p:cNvSpPr/>
          <p:nvPr/>
        </p:nvSpPr>
        <p:spPr>
          <a:xfrm>
            <a:off x="1523880" y="617220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Gill Sans MT"/>
              </a:rPr>
              <a:t>Ireland is a member of the European Antimicrobial Resistance Surveillance Network (EARS-N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Invasive MDR </a:t>
            </a:r>
            <a:r>
              <a:rPr b="1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K. pneumoniae</a:t>
            </a:r>
            <a:r>
              <a:rPr b="0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trends,            2006-2009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TextBox 5"/>
          <p:cNvSpPr/>
          <p:nvPr/>
        </p:nvSpPr>
        <p:spPr>
          <a:xfrm>
            <a:off x="990720" y="6334200"/>
            <a:ext cx="76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laboratories participating by year-end and quarter are indicated above the b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5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845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Numbers and proportions of fluoroquinolone (FQ)-resistant invasive </a:t>
            </a:r>
            <a:r>
              <a:rPr b="1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K. pneumoniae</a:t>
            </a:r>
            <a:r>
              <a:rPr b="0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infection by hospital type, 2009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53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778680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Numbers and proportions of MDR invasive      </a:t>
            </a:r>
            <a:r>
              <a:rPr b="1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K. pneumoniae</a:t>
            </a:r>
            <a:r>
              <a:rPr b="0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infection by hospital type, 2009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55" name="Picture 5" descr=""/>
          <p:cNvPicPr/>
          <p:nvPr/>
        </p:nvPicPr>
        <p:blipFill>
          <a:blip r:embed="rId1"/>
          <a:stretch/>
        </p:blipFill>
        <p:spPr>
          <a:xfrm>
            <a:off x="1143000" y="1805040"/>
            <a:ext cx="784872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sceptibility data for invasive </a:t>
            </a:r>
            <a:r>
              <a:rPr b="1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K. pneumoniae</a:t>
            </a:r>
            <a:r>
              <a:rPr b="0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olates, 2009 (n=323)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848720" cy="51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Resistance profiles of </a:t>
            </a:r>
            <a:r>
              <a:rPr b="1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K. pneumoniae</a:t>
            </a:r>
            <a:r>
              <a:rPr b="0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isolates, 2009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tretch/>
        </p:blipFill>
        <p:spPr>
          <a:xfrm>
            <a:off x="1943280" y="1066680"/>
            <a:ext cx="52578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Age and sex distribution of patients with invasive </a:t>
            </a:r>
            <a:r>
              <a:rPr b="1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K. pneumoniae</a:t>
            </a:r>
            <a:r>
              <a:rPr b="0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infection, 2009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61" name="Picture 4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8962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Age and sex-specific incidence rates of </a:t>
            </a:r>
            <a:br>
              <a:rPr sz="2800"/>
            </a:b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invasive </a:t>
            </a:r>
            <a:r>
              <a:rPr b="1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K. pneumoniae</a:t>
            </a:r>
            <a:r>
              <a:rPr b="0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infection, 2009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TextBox 7"/>
          <p:cNvSpPr/>
          <p:nvPr/>
        </p:nvSpPr>
        <p:spPr>
          <a:xfrm>
            <a:off x="990720" y="632448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Gill Sans MT"/>
              </a:rPr>
              <a:t>ASIR,  Age-Specific Incidence Rate (per 100,000 popul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5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84872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Mean, median, mode and range of ages of patients with invasive </a:t>
            </a:r>
            <a:r>
              <a:rPr b="1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K. pneumoniae</a:t>
            </a:r>
            <a:r>
              <a:rPr b="0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infection, 2009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66" name="Picture 6" descr=""/>
          <p:cNvPicPr/>
          <p:nvPr/>
        </p:nvPicPr>
        <p:blipFill>
          <a:blip r:embed="rId1"/>
          <a:stretch/>
        </p:blipFill>
        <p:spPr>
          <a:xfrm>
            <a:off x="2871720" y="1752480"/>
            <a:ext cx="34005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Sex distribution of patients with invasive      </a:t>
            </a:r>
            <a:r>
              <a:rPr b="1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K. pneumoniae</a:t>
            </a:r>
            <a:r>
              <a:rPr b="0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infection, 2009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8" name="TextBox 6"/>
          <p:cNvSpPr/>
          <p:nvPr/>
        </p:nvSpPr>
        <p:spPr>
          <a:xfrm>
            <a:off x="990720" y="434340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In patients with laboratory-confirmed invasive </a:t>
            </a:r>
            <a:r>
              <a:rPr b="0" i="1" lang="en-IE" sz="20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K. pneumoniae </a:t>
            </a:r>
            <a:r>
              <a:rPr b="0" lang="en-IE" sz="20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infection in 2009, males were approximately 1.3-times more likely to get an infection than females (significant, P=0.02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5" descr=""/>
          <p:cNvPicPr/>
          <p:nvPr/>
        </p:nvPicPr>
        <p:blipFill>
          <a:blip r:embed="rId1"/>
          <a:stretch/>
        </p:blipFill>
        <p:spPr>
          <a:xfrm>
            <a:off x="3048120" y="1371600"/>
            <a:ext cx="304776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6" descr="P:\Microbiology\EARSS\EARSS resources\EARSS resources 2009\EARS-Net European data_TESSy 20100728\KPN 2009\3GC-I+R KPN-2009_20101221.bmp"/>
          <p:cNvPicPr/>
          <p:nvPr/>
        </p:nvPicPr>
        <p:blipFill>
          <a:blip r:embed="rId1"/>
          <a:stretch/>
        </p:blipFill>
        <p:spPr>
          <a:xfrm>
            <a:off x="1905120" y="1295280"/>
            <a:ext cx="6210360" cy="51246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807732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K. pneumoniae</a:t>
            </a:r>
            <a:r>
              <a:rPr b="0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- distribution of 3GC (e.g. CTX or CAZ) resistance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ARSS/EARS-Net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countries in 2009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72" name="Picture 5" descr="db52b651-ca8e-404f-947e-49be3702cbd4"/>
          <p:cNvPicPr/>
          <p:nvPr/>
        </p:nvPicPr>
        <p:blipFill>
          <a:blip r:embed="rId2"/>
          <a:stretch/>
        </p:blipFill>
        <p:spPr>
          <a:xfrm>
            <a:off x="7086600" y="1295280"/>
            <a:ext cx="990720" cy="67644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5"/>
          <p:cNvSpPr/>
          <p:nvPr/>
        </p:nvSpPr>
        <p:spPr>
          <a:xfrm>
            <a:off x="990720" y="6227640"/>
            <a:ext cx="7924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Gill Sans MT"/>
              </a:rPr>
              <a:t>Map downloaded fro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7130e"/>
                </a:solidFill>
                <a:latin typeface="Arial"/>
              </a:rPr>
              <a:t>http://ecdc.europa.eu/en/activities/surveillance/EARS-Net/Pages/Database.aspx </a:t>
            </a:r>
            <a:r>
              <a:rPr b="0" lang="en-IE" sz="1400" spc="-1" strike="noStrike">
                <a:solidFill>
                  <a:srgbClr val="000000"/>
                </a:solidFill>
                <a:latin typeface="Gill Sans MT"/>
              </a:rPr>
              <a:t>on 21/12/201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ARS-Net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. pneumonia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bjective and case definition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990720" y="12952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Objective</a:t>
            </a:r>
            <a:r>
              <a:rPr b="1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15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To determine the proportions of </a:t>
            </a:r>
            <a:r>
              <a:rPr b="0" i="1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K. pneumoniae </a:t>
            </a: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isolates from blood and/or CSF that are resistant to 4 key antibiotic classe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72200" indent="-434160">
              <a:lnSpc>
                <a:spcPct val="90000"/>
              </a:lnSpc>
              <a:spcBef>
                <a:spcPts val="12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Aminopenicillins (e.g. ampicill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72200" indent="-434160">
              <a:lnSpc>
                <a:spcPct val="90000"/>
              </a:lnSpc>
              <a:spcBef>
                <a:spcPts val="12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3</a:t>
            </a:r>
            <a:r>
              <a:rPr b="0" lang="en-IE" sz="2000" spc="-1" strike="noStrike" baseline="30000">
                <a:solidFill>
                  <a:srgbClr val="000000"/>
                </a:solidFill>
                <a:latin typeface="Gill Sans MT"/>
                <a:ea typeface="Times New Roman"/>
              </a:rPr>
              <a:t>rd</a:t>
            </a:r>
            <a:r>
              <a:rPr b="0" lang="en-IE" sz="20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Generation Cephalosporins (e.g. cefotaxime, ceftazidim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72200" indent="-434160">
              <a:lnSpc>
                <a:spcPct val="90000"/>
              </a:lnSpc>
              <a:spcBef>
                <a:spcPts val="12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Fluoroquinolones (e.g.  ciprofloxac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72200" indent="-434160">
              <a:lnSpc>
                <a:spcPct val="90000"/>
              </a:lnSpc>
              <a:spcBef>
                <a:spcPts val="12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Aminoglycosides (e.g. gentamicin, tobramycin, amikac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72200" indent="-434160">
              <a:lnSpc>
                <a:spcPct val="90000"/>
              </a:lnSpc>
              <a:spcBef>
                <a:spcPts val="12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Case definiti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15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EARS-Net collects data on the first invasive isolate (from blood/CSF) of </a:t>
            </a:r>
            <a:r>
              <a:rPr b="0" i="1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K. pneumoniae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per patient per quar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5" descr="P:\Microbiology\EARSS\EARSS resources\EARSS resources 2008\EARSS Maps 20090824\KPN_3GC-R_2008.bmp"/>
          <p:cNvPicPr/>
          <p:nvPr/>
        </p:nvPicPr>
        <p:blipFill>
          <a:blip r:embed="rId1"/>
          <a:stretch/>
        </p:blipFill>
        <p:spPr>
          <a:xfrm>
            <a:off x="1676520" y="533520"/>
            <a:ext cx="6476760" cy="609588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K. pneumoniae</a:t>
            </a:r>
            <a:r>
              <a:rPr b="0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- distribution of 3GC (e.g. CTX or CAZ) resistance in EARSS countries in 2008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990720" y="655308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Gill Sans MT"/>
              </a:rPr>
              <a:t>Map downloaded from http://www.rivm.nl/earss/database/ on 24/08/200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6" descr="P:\Microbiology\EARSS\EARSS resources\EARSS resources 2009\EARS-Net European data_TESSy 20100728\KPN 2009\FQ-I+R KPN-2009_20101221.bmp"/>
          <p:cNvPicPr/>
          <p:nvPr/>
        </p:nvPicPr>
        <p:blipFill>
          <a:blip r:embed="rId1"/>
          <a:stretch/>
        </p:blipFill>
        <p:spPr>
          <a:xfrm>
            <a:off x="1752480" y="1295280"/>
            <a:ext cx="6210360" cy="51246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K. pneumoniae</a:t>
            </a:r>
            <a:r>
              <a:rPr b="0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- distribution of fluoroquinolone (e.g. CIP) resistance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ARSS/EARS-Net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countries in 2009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79" name="Picture 5" descr="db52b651-ca8e-404f-947e-49be3702cbd4"/>
          <p:cNvPicPr/>
          <p:nvPr/>
        </p:nvPicPr>
        <p:blipFill>
          <a:blip r:embed="rId2"/>
          <a:stretch/>
        </p:blipFill>
        <p:spPr>
          <a:xfrm>
            <a:off x="7010280" y="1371600"/>
            <a:ext cx="990720" cy="67644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5"/>
          <p:cNvSpPr/>
          <p:nvPr/>
        </p:nvSpPr>
        <p:spPr>
          <a:xfrm>
            <a:off x="990720" y="6227640"/>
            <a:ext cx="7924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Gill Sans MT"/>
              </a:rPr>
              <a:t>Map downloaded fro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7130e"/>
                </a:solidFill>
                <a:latin typeface="Arial"/>
              </a:rPr>
              <a:t>http://ecdc.europa.eu/en/activities/surveillance/EARS-Net/Pages/Database.aspx </a:t>
            </a:r>
            <a:r>
              <a:rPr b="0" lang="en-IE" sz="1400" spc="-1" strike="noStrike">
                <a:solidFill>
                  <a:srgbClr val="000000"/>
                </a:solidFill>
                <a:latin typeface="Gill Sans MT"/>
              </a:rPr>
              <a:t>on 21/12/201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5" descr="P:\Microbiology\EARSS\EARSS resources\EARSS resources 2008\EARSS Maps 20090824\KPN_FQ-R_2008.bmp"/>
          <p:cNvPicPr/>
          <p:nvPr/>
        </p:nvPicPr>
        <p:blipFill>
          <a:blip r:embed="rId1"/>
          <a:stretch/>
        </p:blipFill>
        <p:spPr>
          <a:xfrm>
            <a:off x="1676520" y="533520"/>
            <a:ext cx="6476760" cy="609588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0773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K. pneumoniae</a:t>
            </a:r>
            <a:r>
              <a:rPr b="0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- distribution of fluoroquinolone (e.g. CIP) resistance in EARSS countries in 2008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990720" y="655308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Gill Sans MT"/>
              </a:rPr>
              <a:t>Map downloaded from http://www.rivm.nl/earss/database/ on 24/08/200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7" descr="P:\Microbiology\EARSS\EARSS resources\EARSS resources 2009\EARS-Net European data_TESSy 20100728\KPN 2009\AG-R KPN-2009_20101221.bmp"/>
          <p:cNvPicPr/>
          <p:nvPr/>
        </p:nvPicPr>
        <p:blipFill>
          <a:blip r:embed="rId1"/>
          <a:stretch/>
        </p:blipFill>
        <p:spPr>
          <a:xfrm>
            <a:off x="1676520" y="1295280"/>
            <a:ext cx="6210360" cy="51246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80773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K. pneumoniae</a:t>
            </a:r>
            <a:r>
              <a:rPr b="0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- distribution of aminoglycoside (e.g. GEN) resistance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ARSS/EARS-Net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countries in 2009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86" name="Picture 5" descr="db52b651-ca8e-404f-947e-49be3702cbd4"/>
          <p:cNvPicPr/>
          <p:nvPr/>
        </p:nvPicPr>
        <p:blipFill>
          <a:blip r:embed="rId2"/>
          <a:stretch/>
        </p:blipFill>
        <p:spPr>
          <a:xfrm>
            <a:off x="6934320" y="1371600"/>
            <a:ext cx="990360" cy="67644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5"/>
          <p:cNvSpPr/>
          <p:nvPr/>
        </p:nvSpPr>
        <p:spPr>
          <a:xfrm>
            <a:off x="990720" y="6227640"/>
            <a:ext cx="7924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Gill Sans MT"/>
              </a:rPr>
              <a:t>Map downloaded fro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7130e"/>
                </a:solidFill>
                <a:latin typeface="Arial"/>
              </a:rPr>
              <a:t>http://ecdc.europa.eu/en/activities/surveillance/EARS-Net/Pages/Database.aspx </a:t>
            </a:r>
            <a:r>
              <a:rPr b="0" lang="en-IE" sz="1400" spc="-1" strike="noStrike">
                <a:solidFill>
                  <a:srgbClr val="000000"/>
                </a:solidFill>
                <a:latin typeface="Gill Sans MT"/>
              </a:rPr>
              <a:t>on 21/12/201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5" descr="P:\Microbiology\EARSS\EARSS resources\EARSS resources 2008\EARSS Maps 20090824\KPN_AG-R_2008.bmp"/>
          <p:cNvPicPr/>
          <p:nvPr/>
        </p:nvPicPr>
        <p:blipFill>
          <a:blip r:embed="rId1"/>
          <a:stretch/>
        </p:blipFill>
        <p:spPr>
          <a:xfrm>
            <a:off x="1676520" y="533520"/>
            <a:ext cx="6476760" cy="609588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69644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K. pneumoniae</a:t>
            </a:r>
            <a:r>
              <a:rPr b="0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- distribution of aminoglycoside (e.g. GEN) resistance in EARSS countries in 2008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990720" y="655308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Gill Sans MT"/>
              </a:rPr>
              <a:t>Map downloaded from http://www.rivm.nl/earss/database/ on 24/08/200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6" descr="P:\Microbiology\EARSS\EARSS resources\EARSS resources 2009\EARS-Net European data_TESSy 20100728\KPN 2009\CBP-I+R KPN-2009_20101221.bmp"/>
          <p:cNvPicPr/>
          <p:nvPr/>
        </p:nvPicPr>
        <p:blipFill>
          <a:blip r:embed="rId1"/>
          <a:stretch/>
        </p:blipFill>
        <p:spPr>
          <a:xfrm>
            <a:off x="1676520" y="1295280"/>
            <a:ext cx="6210360" cy="51246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80773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K. pneumoniae</a:t>
            </a:r>
            <a:r>
              <a:rPr b="0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- distribution of carbapenems (e.g. MEM) resistance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ARSS/EARS-Net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countries in 2009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93" name="Picture 5" descr="db52b651-ca8e-404f-947e-49be3702cbd4"/>
          <p:cNvPicPr/>
          <p:nvPr/>
        </p:nvPicPr>
        <p:blipFill>
          <a:blip r:embed="rId2"/>
          <a:stretch/>
        </p:blipFill>
        <p:spPr>
          <a:xfrm>
            <a:off x="6934320" y="1371600"/>
            <a:ext cx="990360" cy="67644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5"/>
          <p:cNvSpPr/>
          <p:nvPr/>
        </p:nvSpPr>
        <p:spPr>
          <a:xfrm>
            <a:off x="990720" y="6227640"/>
            <a:ext cx="7924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Gill Sans MT"/>
              </a:rPr>
              <a:t>Map downloaded fro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7130e"/>
                </a:solidFill>
                <a:latin typeface="Arial"/>
              </a:rPr>
              <a:t>http://ecdc.europa.eu/en/activities/surveillance/EARS-Net/Pages/Database.aspx </a:t>
            </a:r>
            <a:r>
              <a:rPr b="0" lang="en-IE" sz="1400" spc="-1" strike="noStrike">
                <a:solidFill>
                  <a:srgbClr val="000000"/>
                </a:solidFill>
                <a:latin typeface="Gill Sans MT"/>
              </a:rPr>
              <a:t>on 21/12/201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P:\Microbiology\EARSS\EARSS resources\EARSS resources 2008\EARSS Maps 20090824\KPN_CBP-R_2008.bmp"/>
          <p:cNvPicPr/>
          <p:nvPr/>
        </p:nvPicPr>
        <p:blipFill>
          <a:blip r:embed="rId1"/>
          <a:stretch/>
        </p:blipFill>
        <p:spPr>
          <a:xfrm>
            <a:off x="1676520" y="533520"/>
            <a:ext cx="6476760" cy="60958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69644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K. pneumoniae</a:t>
            </a:r>
            <a:r>
              <a:rPr b="0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- distribution of carbapenems (e.g. MEM) resistance in EARSS countries in 2008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990720" y="655308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Gill Sans MT"/>
              </a:rPr>
              <a:t>Map downloaded from http://www.rivm.nl/earss/database/ on 24/08/200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0560" y="304560"/>
            <a:ext cx="702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Caveats in interpreting EARS-Net data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066320" y="144756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Care must be exercised when interpreting the raw figures, i.e. increases in numbers of isolates, as the numbers of laboratories reporting to EARS-Net has increased over the yea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EARS-Net data does not distinguish clinically significant isolates from contamina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If a resistant isolate is identified subsequent to a susceptible one within the same quarter, then that isolate is not counted (and similarly if susceptible isolates is identified subsequent to resistant on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10666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-504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For further information on antimicrobial resistance and EARS-Net in Ireland, including quarterly and annual reports, plus reference/ resource material on the individual pathogens under surveillance, se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7480" indent="-50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7480" indent="-50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ttp://www.hpsc.ie/hpsc/A-Z/MicrobiologyAntimicrobialResistance/EuropeanAntimicrobialResistanceSurveillanceSystemEARSS/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7480" indent="-50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7480" indent="-50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7480" indent="-50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943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Antibiotic codes and abbreviations: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066320" y="761760"/>
            <a:ext cx="80773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AMK, Amikacin</a:t>
            </a: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AMP, Ampicillin </a:t>
            </a: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CTX, Cefotaxime</a:t>
            </a: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CPD, Cefpodoxime</a:t>
            </a: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CAZ, Ceftazidime</a:t>
            </a: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CRO, Ceftriaxone </a:t>
            </a: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CIP, Ciprofloxacin</a:t>
            </a: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GEN, Gentamici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IPM, Imipenem</a:t>
            </a: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MEM, Meropene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OFX,  Ofloxacin</a:t>
            </a: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TZP, Piperacillin-Tazobacta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TOB,  Tobramycin</a:t>
            </a: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3GC, 3</a:t>
            </a:r>
            <a:r>
              <a:rPr b="0" lang="en-IE" sz="2400" spc="-1" strike="noStrike" baseline="30000">
                <a:solidFill>
                  <a:srgbClr val="000000"/>
                </a:solidFill>
                <a:latin typeface="Gill Sans MT"/>
                <a:ea typeface="Times New Roman"/>
              </a:rPr>
              <a:t>rd</a:t>
            </a: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-Generation Cephalospori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AMR, Antimicrobial Resista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KPN, </a:t>
            </a:r>
            <a:r>
              <a:rPr b="0" i="1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K. pneumonia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ESBL, Extended-Spectrum Beta-Lactama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FQ-R, Fluoroquinolone-Resista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FQ-S, Fluoroquinolone-Susceptib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MDR, Multi-Drug Resista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Numbers and resistance proportions of             </a:t>
            </a:r>
            <a:r>
              <a:rPr b="1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K. pneumoniae</a:t>
            </a:r>
            <a:r>
              <a:rPr b="0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from invasive infection,      2006-2009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TextBox 6"/>
          <p:cNvSpPr/>
          <p:nvPr/>
        </p:nvSpPr>
        <p:spPr>
          <a:xfrm>
            <a:off x="1219320" y="5257800"/>
            <a:ext cx="75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Not all isolates tes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6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76975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Proportions of ESBLs and MDR among            </a:t>
            </a:r>
            <a:r>
              <a:rPr b="1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K. pneumoniae</a:t>
            </a:r>
            <a:r>
              <a:rPr b="0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from invasive infection,      2006-2009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TextBox 6"/>
          <p:cNvSpPr/>
          <p:nvPr/>
        </p:nvSpPr>
        <p:spPr>
          <a:xfrm>
            <a:off x="1371600" y="5257800"/>
            <a:ext cx="54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Not all isolates test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5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01992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Invasive </a:t>
            </a:r>
            <a:r>
              <a:rPr b="1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K. pneumoniae</a:t>
            </a:r>
            <a:r>
              <a:rPr b="0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resistance</a:t>
            </a:r>
            <a:r>
              <a:rPr b="1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trends, 2006-2009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TextBox 5"/>
          <p:cNvSpPr/>
          <p:nvPr/>
        </p:nvSpPr>
        <p:spPr>
          <a:xfrm>
            <a:off x="990720" y="6248520"/>
            <a:ext cx="76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laboratories participating by year-end and quarter are indicated above the b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9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998120" cy="52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Invasive </a:t>
            </a:r>
            <a:r>
              <a:rPr b="1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K. pneumoniae</a:t>
            </a:r>
            <a:r>
              <a:rPr b="0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resistance</a:t>
            </a:r>
            <a:r>
              <a:rPr b="1" i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trends, 2006-2009:  3GCs and ESBLs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TextBox 5"/>
          <p:cNvSpPr/>
          <p:nvPr/>
        </p:nvSpPr>
        <p:spPr>
          <a:xfrm>
            <a:off x="990720" y="6248520"/>
            <a:ext cx="76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laboratories participating by year-end and quarter are indicated above the b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6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84872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kirsty2</cp:lastModifiedBy>
  <dcterms:modified xsi:type="dcterms:W3CDTF">2011-01-05T12:45:02Z</dcterms:modified>
  <cp:revision>493</cp:revision>
  <dc:subject/>
  <dc:title>EARSS in Ireland, 2007</dc:title>
</cp:coreProperties>
</file>