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7.wmf" ContentType="image/x-wmf"/>
  <Override PartName="/ppt/media/image6.jpeg" ContentType="image/jpeg"/>
  <Override PartName="/ppt/media/image9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.jpeg" ContentType="image/jpeg"/>
  <Override PartName="/ppt/media/image15.wmf" ContentType="image/x-wmf"/>
  <Override PartName="/ppt/media/image20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18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6123-62DC-4E3A-9BFA-B8CF35328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1965-63C7-47F1-986D-7AED9608A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EF7C-827B-45CE-AF52-B65818B76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74EC-866A-4966-BFE7-4B2EB0F1F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4A56-8726-4C4F-8D6F-3343DC257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D217-1236-4779-8DAC-15D37D215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C258-2339-444C-9D52-4B38EF400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1DF1-44A6-4A37-AD35-FEBEA3FE7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D5FE-4964-416B-ABFF-20A3BD5B9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034-3A38-4EC0-A65E-68415B95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C8F-B284-4199-BD51-901C2C84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E8E-89C4-4B2F-B002-47AD0BDA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F5F2-B176-4924-A806-4DBDBCA2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38E7-545E-4EBE-A886-B7C95B45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E860-A2F2-422B-BD3F-173639C1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E5FF-889E-4FED-A2FE-10BEDC89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8BB8-0561-40C8-9123-CC0CB9CC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8030-360C-4423-B012-8F030ACC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427A-043C-4B15-B6EE-7A8DF481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D342-55BB-43FF-94C6-4D4BE733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D7F7-1B47-45E3-9127-917C64CA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248E-0B36-485B-8E22-56F5D2C5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7285-B6F0-4C96-97F6-96E3FEBE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6C5B-352E-426A-803B-7A157E71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8356-4817-4135-89A0-36C5D193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6485-4D8A-46DC-983C-DDF14F8D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32EB1-DF6A-47A4-9E18-15F5FD01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FE875-19F5-4CF6-930F-AD75A5FB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71F0A-985B-41E2-B212-B08455F9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01C46-59AE-46A7-9A7F-062F79E1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E023A-D749-41A8-83B9-B2A0F8B7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829-C41E-409E-A83F-6366F3A1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D3F7B-7C32-4595-811A-59DE4FDC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D8214-157F-4A24-949E-F6922972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ADF66-78F2-4AEE-9B0D-F2ED045B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3786D-F00C-4B32-85EA-8DCF6B54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D16D7-E6B7-4416-AFB2-4D0824D6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A960C-7906-47D2-8933-78A27B1B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1F933-8A61-40D2-97DD-735E001D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327C2-8826-4F08-8F49-883B12FB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7770A-F3C5-4953-BB16-245AA769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82259-7579-4C31-9755-362BE6BF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DB8-64B4-48B3-AEB0-AF8AE994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FC146-3482-46CE-BE28-74D59234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43E65-267A-417D-862D-F24E28D2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D851B-D1C3-4687-84E1-45BDD121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97048-AD27-4C50-962D-7236D904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94FB7-6C0B-437B-8BA2-81306DFB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32175-0E43-499E-B36B-00C0F049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6C2B5-7C9C-4844-A99C-714A6F72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715DF-D28C-4C81-81E3-F76EEAFF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873CC-DE30-422D-8098-E98DA379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32145-116C-4747-B3B3-89A0A93E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00A-131F-4CF2-A73D-987AE522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85614-38FF-48BF-9415-8175DD90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C15AB-C13C-4395-86D1-3ECA39B4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87C2A-B02C-4186-B4E3-D8F44332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DCC8D-264D-430D-8DDD-83F8B770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262A4-1145-4BB5-A5C9-ABB171AD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18AEE-6AE1-4DC3-97DF-366AF414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F6B43-C467-45DE-B72E-D6242781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3A7B9-41F5-4D12-B496-7F6811CA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E32BD-AD52-4BCD-B00B-A357677E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18901-0791-4CB3-B71F-DDA6DDBF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BC7-B3A3-4FE6-A3CF-7D8405B3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22BE5-96A6-45F8-9D32-959C3869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75007-4A85-4077-AB61-4E5C3714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871B2-22D5-4ACD-B9D6-EE43FC7C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9AE6C-968A-4F15-B217-BBEAB192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5FEB6-B6A2-441B-B1CD-FD69C0A5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E747F-AA7B-4B39-87A5-C15359F1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D44D0-CFD6-450D-8C8A-06D08A3B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2880C-DB02-4ADD-8D13-EA7DCE27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D8BF4-13AA-4A5B-90E3-CDEA49CD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C350F-0992-4BE1-BC0C-65B56D6D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584-8882-4053-9E10-BBA084B4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2DB77-BAC6-42D9-ABBE-D900DE1D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49FDD-002B-42B2-BB71-7409C302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39C9B-F524-4496-8670-0CB8B804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8099F-EB20-4D18-AFC7-E286496D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96E00-FA3D-49AC-BC01-530E7CCF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8939C-E517-4CE8-88DE-B732F360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7E68B-5460-440D-A892-528481F5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3737E-EDD7-43FF-8844-F81CC790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5C299-B013-47DD-B5A3-65C06D6C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A66C0-C4CE-474D-9AA0-E085DC91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FEB-4C46-443D-BC5D-365295CC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B2ABA-1A0E-4D0A-A17C-08645AC7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50B6E-6314-49E3-AD92-5BB89237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B3E2A-ACA0-4388-93A1-38BEF9FC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E92EF-AF02-4308-B20F-171C321C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CD9AE-A3A1-4A2A-8D51-05CE6DBC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CD3-931D-4E21-81B8-120C1100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B415-1E87-4CF5-ADFD-C5BB6F2E028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4318-54B5-4295-8E72-E16408387CB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7AAE-65CA-4808-8C52-1F0E39B5AAF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150D-C228-4AFC-91C9-61898E5EC9E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FB93-368B-44D9-AE57-7BA63990D8D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2CA8-5DCB-43F9-9E94-52D38C4B106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3C47-F8E8-41DE-907E-11AFDFB1621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2692440"/>
            <a:ext cx="74070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  <a:ea typeface="Arial"/>
              </a:rPr>
              <a:t>Antimicrobial resistance surveillance in Ireland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300" spc="-1" strike="noStrike">
                <a:solidFill>
                  <a:srgbClr val="000000"/>
                </a:solidFill>
                <a:latin typeface="Arial"/>
                <a:ea typeface="Arial"/>
              </a:rPr>
              <a:t>Results of invasive                                        </a:t>
            </a:r>
            <a:r>
              <a:rPr b="0" i="1" lang="en-IE" sz="3300" spc="-1" strike="noStrike">
                <a:solidFill>
                  <a:srgbClr val="000000"/>
                </a:solidFill>
                <a:latin typeface="Arial"/>
                <a:ea typeface="Arial"/>
              </a:rPr>
              <a:t>Klebsiella pneumoniae </a:t>
            </a:r>
            <a:r>
              <a:rPr b="0" lang="en-IE" sz="3300" spc="-1" strike="noStrike">
                <a:solidFill>
                  <a:srgbClr val="000000"/>
                </a:solidFill>
                <a:latin typeface="Arial"/>
                <a:ea typeface="Arial"/>
              </a:rPr>
              <a:t>infection (blood/CSF) surveillance, 2009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  <a:ea typeface="Arial"/>
              </a:rPr>
              <a:t>**** Data as of 01/12/2010 ****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9" descr="hpsc_logo"/>
          <p:cNvPicPr/>
          <p:nvPr/>
        </p:nvPicPr>
        <p:blipFill>
          <a:blip r:embed="rId1"/>
          <a:stretch/>
        </p:blipFill>
        <p:spPr>
          <a:xfrm>
            <a:off x="2362320" y="762120"/>
            <a:ext cx="2209680" cy="1981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HSE logo"/>
          <p:cNvPicPr/>
          <p:nvPr/>
        </p:nvPicPr>
        <p:blipFill>
          <a:blip r:embed="rId2"/>
          <a:stretch/>
        </p:blipFill>
        <p:spPr>
          <a:xfrm>
            <a:off x="4572000" y="762120"/>
            <a:ext cx="2438280" cy="20574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7"/>
          <p:cNvSpPr/>
          <p:nvPr/>
        </p:nvSpPr>
        <p:spPr>
          <a:xfrm>
            <a:off x="1523880" y="61722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Gill Sans MT"/>
              </a:rPr>
              <a:t>Ireland is a member of the European Antimicrobial Resistance Surveillance Network (EARS-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vasive MDR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trends,            2006-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990720" y="633420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laboratories participating by year-end and quarter are indicated above the b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845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Numbers and proportions of fluoroquinolone (FQ)-resistant invasiv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 by hospital type, 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7868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Numbers and proportions of MDR invasive     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 by hospital type, 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1143000" y="1805040"/>
            <a:ext cx="78487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sceptibility data for invasiv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olates, 2009 (n=323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84872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Resistance profiles of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solates, 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943280" y="1066680"/>
            <a:ext cx="52578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Age and sex distribution of patients with invasiv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, 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8962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Age and sex-specific incidence rates of </a:t>
            </a:r>
            <a:br>
              <a:rPr sz="2800"/>
            </a:b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vasiv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, 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TextBox 7"/>
          <p:cNvSpPr/>
          <p:nvPr/>
        </p:nvSpPr>
        <p:spPr>
          <a:xfrm>
            <a:off x="990720" y="63244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ASIR,  Age-Specific Incidence Rate (per 100,000 popul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5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8487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Mean, median, mode and range of ages of patients with invasiv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, 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6" name="Picture 6" descr=""/>
          <p:cNvPicPr/>
          <p:nvPr/>
        </p:nvPicPr>
        <p:blipFill>
          <a:blip r:embed="rId1"/>
          <a:stretch/>
        </p:blipFill>
        <p:spPr>
          <a:xfrm>
            <a:off x="2871720" y="1752480"/>
            <a:ext cx="34005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Sex distribution of patients with invasive     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, 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TextBox 6"/>
          <p:cNvSpPr/>
          <p:nvPr/>
        </p:nvSpPr>
        <p:spPr>
          <a:xfrm>
            <a:off x="990720" y="43434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n patients with laboratory-confirmed invasive </a:t>
            </a:r>
            <a:r>
              <a:rPr b="0" i="1" lang="en-IE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K. pneumoniae </a:t>
            </a:r>
            <a:r>
              <a:rPr b="0" lang="en-IE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nfection in 2009, males were approximately 1.3-times more likely to get an infection than females (significant, P=0.02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5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304776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6" descr="P:\Microbiology\EARSS\EARSS resources\EARSS resources 2009\EARS-Net European data_TESSy 20100728\KPN 2009\3GC-I+R KPN-2009_20101221.bmp"/>
          <p:cNvPicPr/>
          <p:nvPr/>
        </p:nvPicPr>
        <p:blipFill>
          <a:blip r:embed="rId1"/>
          <a:stretch/>
        </p:blipFill>
        <p:spPr>
          <a:xfrm>
            <a:off x="1905120" y="1295280"/>
            <a:ext cx="6210360" cy="51246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- distribution of 3GC (e.g. CTX or CAZ) resistance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RSS/EARS-Net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countries in 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2" name="Picture 5" descr="db52b651-ca8e-404f-947e-49be3702cbd4"/>
          <p:cNvPicPr/>
          <p:nvPr/>
        </p:nvPicPr>
        <p:blipFill>
          <a:blip r:embed="rId2"/>
          <a:stretch/>
        </p:blipFill>
        <p:spPr>
          <a:xfrm>
            <a:off x="7086600" y="1295280"/>
            <a:ext cx="990720" cy="67644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5"/>
          <p:cNvSpPr/>
          <p:nvPr/>
        </p:nvSpPr>
        <p:spPr>
          <a:xfrm>
            <a:off x="990720" y="6227640"/>
            <a:ext cx="7924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Map downloaded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7130e"/>
                </a:solidFill>
                <a:latin typeface="Arial"/>
              </a:rPr>
              <a:t>http://ecdc.europa.eu/en/activities/surveillance/EARS-Net/Pages/Database.aspx </a:t>
            </a: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on 21/12/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RS-Ne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ive and case definition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9072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Objective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15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To determine the proportions of </a:t>
            </a:r>
            <a:r>
              <a:rPr b="0" i="1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K. pneumoniae 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solates from blood and/or CSF that are resistant to 4 key antibiotic class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72200" indent="-434160">
              <a:lnSpc>
                <a:spcPct val="9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minopenicillins (e.g. ampicill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72200" indent="-434160">
              <a:lnSpc>
                <a:spcPct val="9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3</a:t>
            </a:r>
            <a:r>
              <a:rPr b="0" lang="en-IE" sz="2000" spc="-1" strike="noStrike" baseline="30000">
                <a:solidFill>
                  <a:srgbClr val="000000"/>
                </a:solidFill>
                <a:latin typeface="Gill Sans MT"/>
                <a:ea typeface="Times New Roman"/>
              </a:rPr>
              <a:t>rd</a:t>
            </a:r>
            <a:r>
              <a:rPr b="0" lang="en-IE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Generation Cephalosporins (e.g. cefotaxime, ceftazidim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72200" indent="-434160">
              <a:lnSpc>
                <a:spcPct val="9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Fluoroquinolones (e.g.  ciprofloxac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72200" indent="-434160">
              <a:lnSpc>
                <a:spcPct val="9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minoglycosides (e.g. gentamicin, tobramycin, amikac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72200" indent="-434160">
              <a:lnSpc>
                <a:spcPct val="9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ase 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15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ARS-Net collects data on the first invasive isolate (from blood/CSF) of </a:t>
            </a:r>
            <a:r>
              <a:rPr b="0" i="1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K. pneumonia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per patient per quar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5" descr="P:\Microbiology\EARSS\EARSS resources\EARSS resources 2008\EARSS Maps 20090824\KPN_3GC-R_2008.bmp"/>
          <p:cNvPicPr/>
          <p:nvPr/>
        </p:nvPicPr>
        <p:blipFill>
          <a:blip r:embed="rId1"/>
          <a:stretch/>
        </p:blipFill>
        <p:spPr>
          <a:xfrm>
            <a:off x="1676520" y="533520"/>
            <a:ext cx="6476760" cy="60958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- distribution of 3GC (e.g. CTX or CAZ) resistance in EARSS countries in 2008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990720" y="65530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Map downloaded from http://www.rivm.nl/earss/database/ on 24/08/200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6" descr="P:\Microbiology\EARSS\EARSS resources\EARSS resources 2009\EARS-Net European data_TESSy 20100728\KPN 2009\FQ-I+R KPN-2009_20101221.bmp"/>
          <p:cNvPicPr/>
          <p:nvPr/>
        </p:nvPicPr>
        <p:blipFill>
          <a:blip r:embed="rId1"/>
          <a:stretch/>
        </p:blipFill>
        <p:spPr>
          <a:xfrm>
            <a:off x="1752480" y="1295280"/>
            <a:ext cx="6210360" cy="51246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- distribution of fluoroquinolone (e.g. CIP) resistance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RSS/EARS-Net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countries in 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9" name="Picture 5" descr="db52b651-ca8e-404f-947e-49be3702cbd4"/>
          <p:cNvPicPr/>
          <p:nvPr/>
        </p:nvPicPr>
        <p:blipFill>
          <a:blip r:embed="rId2"/>
          <a:stretch/>
        </p:blipFill>
        <p:spPr>
          <a:xfrm>
            <a:off x="7010280" y="1371600"/>
            <a:ext cx="990720" cy="67644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5"/>
          <p:cNvSpPr/>
          <p:nvPr/>
        </p:nvSpPr>
        <p:spPr>
          <a:xfrm>
            <a:off x="990720" y="6227640"/>
            <a:ext cx="7924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Map downloaded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7130e"/>
                </a:solidFill>
                <a:latin typeface="Arial"/>
              </a:rPr>
              <a:t>http://ecdc.europa.eu/en/activities/surveillance/EARS-Net/Pages/Database.aspx </a:t>
            </a: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on 21/12/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5" descr="P:\Microbiology\EARSS\EARSS resources\EARSS resources 2008\EARSS Maps 20090824\KPN_FQ-R_2008.bmp"/>
          <p:cNvPicPr/>
          <p:nvPr/>
        </p:nvPicPr>
        <p:blipFill>
          <a:blip r:embed="rId1"/>
          <a:stretch/>
        </p:blipFill>
        <p:spPr>
          <a:xfrm>
            <a:off x="1676520" y="533520"/>
            <a:ext cx="6476760" cy="60958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077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- distribution of fluoroquinolone (e.g. CIP) resistance in EARSS countries in 2008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990720" y="65530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Map downloaded from http://www.rivm.nl/earss/database/ on 24/08/200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7" descr="P:\Microbiology\EARSS\EARSS resources\EARSS resources 2009\EARS-Net European data_TESSy 20100728\KPN 2009\AG-R KPN-2009_20101221.bmp"/>
          <p:cNvPicPr/>
          <p:nvPr/>
        </p:nvPicPr>
        <p:blipFill>
          <a:blip r:embed="rId1"/>
          <a:stretch/>
        </p:blipFill>
        <p:spPr>
          <a:xfrm>
            <a:off x="1676520" y="1295280"/>
            <a:ext cx="6210360" cy="51246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- distribution of aminoglycoside (e.g. GEN) resistance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RSS/EARS-Net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countries in 2009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6" name="Picture 5" descr="db52b651-ca8e-404f-947e-49be3702cbd4"/>
          <p:cNvPicPr/>
          <p:nvPr/>
        </p:nvPicPr>
        <p:blipFill>
          <a:blip r:embed="rId2"/>
          <a:stretch/>
        </p:blipFill>
        <p:spPr>
          <a:xfrm>
            <a:off x="6934320" y="1371600"/>
            <a:ext cx="990360" cy="67644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990720" y="6227640"/>
            <a:ext cx="7924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Map downloaded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7130e"/>
                </a:solidFill>
                <a:latin typeface="Arial"/>
              </a:rPr>
              <a:t>http://ecdc.europa.eu/en/activities/surveillance/EARS-Net/Pages/Database.aspx </a:t>
            </a: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on 21/12/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5" descr="P:\Microbiology\EARSS\EARSS resources\EARSS resources 2008\EARSS Maps 20090824\KPN_AG-R_2008.bmp"/>
          <p:cNvPicPr/>
          <p:nvPr/>
        </p:nvPicPr>
        <p:blipFill>
          <a:blip r:embed="rId1"/>
          <a:stretch/>
        </p:blipFill>
        <p:spPr>
          <a:xfrm>
            <a:off x="1676520" y="533520"/>
            <a:ext cx="6476760" cy="60958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69644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- distribution of aminoglycoside (e.g. GEN) resistance in EARSS countries in 2008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990720" y="65530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Map downloaded from http://www.rivm.nl/earss/database/ on 24/08/200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6" descr="P:\Microbiology\EARSS\EARSS resources\EARSS resources 2009\EARS-Net European data_TESSy 20100728\KPN 2009\CBP-I+R KPN-2009_20101221.bmp"/>
          <p:cNvPicPr/>
          <p:nvPr/>
        </p:nvPicPr>
        <p:blipFill>
          <a:blip r:embed="rId1"/>
          <a:stretch/>
        </p:blipFill>
        <p:spPr>
          <a:xfrm>
            <a:off x="1676520" y="1295280"/>
            <a:ext cx="6210360" cy="51246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- distribution of carbapenems (e.g. MEM) resistance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RSS/EARS-Net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countries in 2009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3" name="Picture 5" descr="db52b651-ca8e-404f-947e-49be3702cbd4"/>
          <p:cNvPicPr/>
          <p:nvPr/>
        </p:nvPicPr>
        <p:blipFill>
          <a:blip r:embed="rId2"/>
          <a:stretch/>
        </p:blipFill>
        <p:spPr>
          <a:xfrm>
            <a:off x="6934320" y="1371600"/>
            <a:ext cx="990360" cy="67644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5"/>
          <p:cNvSpPr/>
          <p:nvPr/>
        </p:nvSpPr>
        <p:spPr>
          <a:xfrm>
            <a:off x="990720" y="6227640"/>
            <a:ext cx="7924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Map downloaded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7130e"/>
                </a:solidFill>
                <a:latin typeface="Arial"/>
              </a:rPr>
              <a:t>http://ecdc.europa.eu/en/activities/surveillance/EARS-Net/Pages/Database.aspx </a:t>
            </a: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on 21/12/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P:\Microbiology\EARSS\EARSS resources\EARSS resources 2008\EARSS Maps 20090824\KPN_CBP-R_2008.bmp"/>
          <p:cNvPicPr/>
          <p:nvPr/>
        </p:nvPicPr>
        <p:blipFill>
          <a:blip r:embed="rId1"/>
          <a:stretch/>
        </p:blipFill>
        <p:spPr>
          <a:xfrm>
            <a:off x="1676520" y="533520"/>
            <a:ext cx="6476760" cy="60958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6964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- distribution of carbapenems (e.g. MEM) resistance in EARSS countries in 2008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990720" y="65530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Map downloaded from http://www.rivm.nl/earss/database/ on 24/08/200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0560" y="304560"/>
            <a:ext cx="702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Caveats in interpreting EARS-Net data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066320" y="1447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are must be exercised when interpreting the raw figures, i.e. increases in numbers of isolates, as the numbers of laboratories reporting to EARS-Net has increased over the yea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ARS-Net data does not distinguish clinically significant isolates from contamina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f a resistant isolate is identified subsequent to a susceptible one within the same quarter, then that isolate is not counted (and similarly if susceptible isolates is identified subsequent to resistant on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0666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-50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For further information on antimicrobial resistance and EARS-Net in Ireland, including quarterly and annual reports, plus reference/ resource material on the individual pathogens under surveillance, se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480" indent="-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480" indent="-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://www.hpsc.ie/hpsc/A-Z/MicrobiologyAntimicrobialResistance/EuropeanAntimicrobialResistanceSurveillanceSystemEARSS/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480" indent="-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480" indent="-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480" indent="-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Antibiotic codes and abbreviations: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66320" y="76176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MK, Amikacin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AMP, Ampicillin 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TX, Cefotaxime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PD, Cefpodoxime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AZ, Ceftazidime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RO, Ceftriaxone 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IP, Ciprofloxacin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GEN, Gentamic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PM, Imipenem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MEM, Meropen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OFX,  Ofloxacin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TZP, Piperacillin-Tazobact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TOB,  Tobramycin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3GC, 3</a:t>
            </a:r>
            <a:r>
              <a:rPr b="0" lang="en-IE" sz="2400" spc="-1" strike="noStrike" baseline="30000">
                <a:solidFill>
                  <a:srgbClr val="000000"/>
                </a:solidFill>
                <a:latin typeface="Gill Sans MT"/>
                <a:ea typeface="Times New Roman"/>
              </a:rPr>
              <a:t>rd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-Generation Cephalospor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MR, Antimicrobial Resist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KPN, </a:t>
            </a:r>
            <a:r>
              <a:rPr b="0" i="1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K. pneumonia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SBL, Extended-Spectrum Beta-Lactam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FQ-R, Fluoroquinolone-Resista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FQ-S, Fluoroquinolone-Suscepti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MDR, Multi-Drug Resist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Numbers and resistance proportions of            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from invasive infection,      2006-2009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1219320" y="525780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Not all isolates t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6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97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Proportions of ESBLs and MDR among           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from invasive infection,      2006-2009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TextBox 6"/>
          <p:cNvSpPr/>
          <p:nvPr/>
        </p:nvSpPr>
        <p:spPr>
          <a:xfrm>
            <a:off x="1371600" y="52578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Not all isolates tes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0199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vasiv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resistance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trends, 2006-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990720" y="624852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laboratories participating by year-end and quarter are indicated above the b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9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99812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vasiv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resistance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trends, 2006-2009:  3GCs and ESBLs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990720" y="624852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laboratories participating by year-end and quarter are indicated above the b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6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8487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irsty2</cp:lastModifiedBy>
  <dcterms:modified xsi:type="dcterms:W3CDTF">2011-01-05T12:45:02Z</dcterms:modified>
  <cp:revision>493</cp:revision>
  <dc:subject/>
  <dc:title>EARSS in Ireland, 2007</dc:title>
</cp:coreProperties>
</file>